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83400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624816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2164680"/>
            <a:ext cx="624816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216468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25840" y="216468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36480" y="141264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49320" y="141264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216468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36480" y="216468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49320" y="216468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C4D-5F48-4AF4-930A-3BA8EF2FC4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62481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F62-8CD0-4816-9922-A567F832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62481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E6D-B1CA-41A8-8E5E-678AAE3D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EE6-E238-4457-A675-ECA4BC4F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E52-FD61-43FC-A4D1-66C42BE0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281800" cy="11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452-4797-4A50-A590-2A878453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4000" y="216468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48B-CF31-441B-B4B8-6F4AA9D1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62481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25840" y="216468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945-360E-4D07-9CC3-399BEA1C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4000" y="2164680"/>
            <a:ext cx="624816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BF4-7AF8-4900-A51B-99C44E36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624816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000" y="2164680"/>
            <a:ext cx="624816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B4A-78CA-4BE8-B705-44A4C01E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4000" y="216468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25840" y="216468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C4E-B3B1-49C1-AFF1-19B89C76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6480" y="141264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49320" y="141264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4000" y="216468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436480" y="216468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49320" y="216468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298-03EA-46FE-A434-73A9F46152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62481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281800" cy="11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216468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25840" y="216468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2164680"/>
            <a:ext cx="624816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122040"/>
            <a:ext cx="8820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2e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2e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68000" y="6524640"/>
            <a:ext cx="8280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17080" y="6524640"/>
            <a:ext cx="8269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C3CC-FFE3-448E-9257-CEE4742B6B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24640"/>
            <a:ext cx="3673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orgiy Korne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e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8FAC-D308-4265-83E4-E740AE47F5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819520"/>
            <a:ext cx="84438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0200" y="2852280"/>
            <a:ext cx="828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ec00"/>
                </a:solidFill>
                <a:latin typeface="Arial"/>
              </a:rPr>
              <a:t>Javadoc</a:t>
            </a: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30080" y="1989000"/>
            <a:ext cx="7683840" cy="8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Java Advanc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21:00:12Z</dcterms:created>
  <dc:creator>Geo</dc:creator>
  <dc:description/>
  <dc:language>en-US</dc:language>
  <cp:lastModifiedBy>shurik</cp:lastModifiedBy>
  <dcterms:modified xsi:type="dcterms:W3CDTF">2006-03-29T23:05:45Z</dcterms:modified>
  <cp:revision>482</cp:revision>
  <dc:subject/>
  <dc:title>Slide 1</dc:title>
</cp:coreProperties>
</file>