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01D0-52D2-4EB0-8964-759EDF0B1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2320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A188-2C06-4376-B331-E4AD8DBBD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2320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2320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1414-8BF0-4AB6-81C1-60F3558D2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90756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90756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2320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2320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23200"/>
            <a:ext cx="29440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301E-48E5-4A25-8A2B-B420CF5E1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49F6-57C5-4293-A4D7-DE1C92129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6B4C-5A95-4A52-8879-5F9C8CA82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0890-37E1-48DD-AE03-B521F4F25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CD0A-E42A-4898-A939-9912F2FA3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A054-2549-4657-B424-5449BFCFF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2320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75829-1AD1-4B77-8357-54F1B56F2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2320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4DD1D-7BD7-451A-B790-41BE54F97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907560"/>
            <a:ext cx="44622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23200"/>
            <a:ext cx="9144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7891-CE21-44DF-B3B2-3D77FE872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97360"/>
            <a:ext cx="6019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.А. Нов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Обзор язы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590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C49B-3C7D-48DF-82F5-4E0F133DF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з 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.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и и отношения – лексем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ксемы можно комбинировать произвольным (допустимым) образ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 – изображ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а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афа моде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диаграм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добства рекомендуется использовать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ноническ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иаграм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AC50-C5D3-441E-AA3B-6113DA3E9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нонические диаграмм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lass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object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use case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sequence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опера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ollaboration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ояни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state chart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ctivity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онент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omponent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мещ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eployment dia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2C54-6FD5-4059-9D5D-87B647BECD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диаграм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640" y="1066680"/>
            <a:ext cx="873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tatic structure diagra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кла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mplementation diagra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компонен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размещ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а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денческ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behavioral diagra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состоя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действ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аимодейств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teraction diagra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ы кооп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ы последова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6AE8-D451-4C5C-90BB-98F82453B0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ерархия типов диаграм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 1.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240" y="1523880"/>
            <a:ext cx="9147240" cy="47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D461-1F8D-4697-A363-F70CE105DF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нонические диаграмм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использования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класс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внутренняя структу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диаграмма паке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ы компонентов и развертыван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предоставляемые и требуемые интерфей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состоя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точки входа/выхода составных состоя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деятель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контакты действ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обла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последователь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составные шаги + обзорная диаграмма + синхронизации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грамма коопераци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иаграмма коммуник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28D5-512F-445D-84EF-6367C4AA82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использования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43600" cy="571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7588-6701-423C-B4C1-55E46B173C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использования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30500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7280" y="2708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ействующее лиц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0864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ействующ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л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0000" y="56674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Зависимости и обобщения вариантов исполь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152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Граница сис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CDC1-6329-4A35-8E78-1B4E1017C3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5760" y="0"/>
            <a:ext cx="89582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лассов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168560"/>
            <a:ext cx="9144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BD924-986D-4E31-BDC8-21D15BF81B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1679400"/>
            <a:ext cx="6553440" cy="34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31CF-7000-4976-92EC-27CC0B68B1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9144000" cy="5461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внутренней структуры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tructured Classifier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27280" y="425772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и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162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едоставляемый интерфей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7280" y="314172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Требуемый интерфей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77080" y="4400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Ча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204D-DB96-4B35-9B69-B482BBD837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9720" y="1015920"/>
            <a:ext cx="74199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CC73-CC93-4764-A188-EE574BCC07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состояний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344160" cy="278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24DA-F513-418F-8A72-790043BCCD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6969" t="24012" r="14358" b="25182"/>
          <a:stretch/>
        </p:blipFill>
        <p:spPr>
          <a:xfrm>
            <a:off x="177840" y="447840"/>
            <a:ext cx="8966160" cy="5889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состояний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08000" y="180828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Начальное состоя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166536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Заключительное состоя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508464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Точка в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522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Точка вы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305000"/>
            <a:ext cx="34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екращение выпол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4720" y="40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ложенная машина состоя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4F66-BE21-4266-B603-9C7023EDE1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деятельности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7520" y="762120"/>
            <a:ext cx="6708960" cy="58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5E05-EF7A-477A-80A4-8E4A0725BB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деятельности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1828" t="14342" r="13588" b="26077"/>
          <a:stretch/>
        </p:blipFill>
        <p:spPr>
          <a:xfrm>
            <a:off x="1079640" y="512640"/>
            <a:ext cx="7165800" cy="586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84360" y="53737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Конец потока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92720" y="533700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Конец потока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77080" y="144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арамет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144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Начало потока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72000" y="2852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ыходной контакт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32360" y="3897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Входной контакт 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4360" y="3176640"/>
            <a:ext cx="37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ередаваемый объект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0BDD-D989-4CB2-8542-57AC38BC45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грамма последовательнос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561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7495-D226-4A3B-9D64-A1FA1EE4D1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грамма последовательност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3424" t="15060" r="38693" b="16439"/>
          <a:stretch/>
        </p:blipFill>
        <p:spPr>
          <a:xfrm>
            <a:off x="4356000" y="512640"/>
            <a:ext cx="4788000" cy="6083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8920" y="2205000"/>
            <a:ext cx="36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сылка на другую диаграмм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65736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Рамка диаграммы с тегом и именем диагра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176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ставной шаг (альтернатива) с рамкой и тегом ша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4C8D-D3CA-4134-9363-E74EC2FC7E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ооперации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1779480"/>
            <a:ext cx="8686800" cy="32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FDF4-B8AC-41F4-81E2-351755229C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оммуникации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47795" b="35201"/>
          <a:stretch/>
        </p:blipFill>
        <p:spPr>
          <a:xfrm>
            <a:off x="1363680" y="838080"/>
            <a:ext cx="6845400" cy="50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7757-4852-498E-9E14-41060695F2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омпонент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1.x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508040"/>
            <a:ext cx="822960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9F8A-6A00-414B-AD65-BFE3F2AEF3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компонент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27592" b="64263"/>
          <a:stretch/>
        </p:blipFill>
        <p:spPr>
          <a:xfrm>
            <a:off x="395280" y="2313000"/>
            <a:ext cx="8467560" cy="246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9BE0-D5B3-4C1D-AAF5-DE3B6D265A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(UML Mode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ы модел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Entiti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Relat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iagra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iews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ие механиз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eneral Mechanisms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5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ил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ile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6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йства модел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Propertie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6046-EF43-4BD9-B7FE-A7BD964E1B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размещения (1.х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829E-A6C9-4B74-BC8A-85FFC559C4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рамма размещения (2.0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6882" t="10350" r="51890" b="47883"/>
          <a:stretch/>
        </p:blipFill>
        <p:spPr>
          <a:xfrm>
            <a:off x="468360" y="873000"/>
            <a:ext cx="8172360" cy="49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DD69-30A7-4332-B74A-89C555DE01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3. Представления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w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4428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ьные модели слож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ую модель невозможно обозреть с одной точки зр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= проекция (фильтрация) единого графа модел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(… 8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использования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se View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гическое предста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esign Vie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процесс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rocess Vie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компонент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mponent Vie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ение размещения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 Vie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B668-819A-4950-8D23-B01DAA0C87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ь представл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2286000"/>
            <a:ext cx="2895480" cy="4597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3505320"/>
            <a:ext cx="28954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men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505320"/>
            <a:ext cx="2895480" cy="45972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2286000"/>
            <a:ext cx="28958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2590920"/>
            <a:ext cx="2438280" cy="9903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2819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as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9907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арь предметной области, функциона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9907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ка системы, управление конфигур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343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огия системы, распределение, устан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267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ительность, масштабируемость, пропускная способ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DE4B-1DB0-401A-8F46-A2B471DCE9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ставление использ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поведения с точки зрения внешних аг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 состояний и деятельност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5A47-A599-4E5E-A48E-9EB5DD5529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огическое представле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1307880"/>
            <a:ext cx="762012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словарь предметной обла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классов и объек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 состояний и действ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E88A-E028-476E-B004-110992DFF9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ставление процесс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ллелизм и синхронизац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производительность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асштабируемость, пропускн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особно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ктивные классы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ы и пото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ояний и действ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C947-F6B5-49CD-86C8-9BD66C73C4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ставление компоненто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оненты (файлы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управление конфигураци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иаграммы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 состояний и дейст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7E48-952C-41F7-8E59-2C48766E80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ставление размещ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ология аппаратных средств и размещение компонен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ые аспек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иаграммы размещ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денческие аспект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диаграммы взаимодействия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стояний и дейст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8C16-C7B0-4F64-8B67-75D64A6516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емь представле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907920"/>
          <a:ext cx="9080640" cy="6061320"/>
        </p:xfrm>
        <a:graphic>
          <a:graphicData uri="http://schemas.openxmlformats.org/drawingml/2006/table">
            <a:tbl>
              <a:tblPr/>
              <a:tblGrid>
                <a:gridCol w="2960640"/>
                <a:gridCol w="3071880"/>
                <a:gridCol w="304812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 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чных автом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я модел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я модел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0220-695A-4FFC-A3F8-407D2F2088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91540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(V,E) 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устое множество (вершины) + множество неупорядоченных пар вершин (ребра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раф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порядоченные ребра = дуг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ультиграф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ратные ребра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псевдограф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етл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раф = бинарное отношение на множеств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груженный граф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 : V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, g: 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груженный мульти- псевдо- гипер- оргра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шины = сущности, ребра = отнош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5C68-3C22-4AC8-8F22-F76D2B3085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и представ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делает систе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ЧЕГО состоит систе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классов, компонентов и размещ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ботает систем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состояний, деятельности и взаимодействия (последовательности / коммуникац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526C-EFB9-47FB-A551-703422DFC08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еративный процесс модел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1343160"/>
            <a:ext cx="7467840" cy="55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0A3C-84BF-4735-B3D8-8C2E6FC407D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4. Общие механизм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ее представление = Специфика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specificati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отная сторона карти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adornments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крашен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ecoration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. разделы, спец. знач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разделения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division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реализ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ханизмы расшир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extension mechanis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реотип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tereotyp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ованные знач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agged valu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nstrai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D5FC-3630-4B2F-871B-DD7A4E9FA06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утреннее представление 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M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3337" r="43715" b="71251"/>
          <a:stretch/>
        </p:blipFill>
        <p:spPr>
          <a:xfrm>
            <a:off x="693720" y="1763640"/>
            <a:ext cx="7118280" cy="285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5D80-B91D-4669-A95A-D46AA520F2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утреннее представление 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M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87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A4BB-8887-4B38-BDC8-207A250410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17008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0D2B-5A27-4830-B343-5090B2E1E5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разде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одном и том же контексте нужно различать множества (классы) и элементы (объекты), то имена объектов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дчеркивают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множеств – н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одном и том же контексте нужно различать абстрактные классификаторы (не могущие иметь непосредственных экземпляров) и конкретные классификаторы (могущие иметь непосредственные экземпляры), то имена абстрактных запис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рсив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конкретных – прямым шриф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C025-1FC0-418C-93A9-600F99FFFF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енованные значения и огранич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3680" y="1720800"/>
            <a:ext cx="8146800" cy="1844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7191360" cy="33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2180-BF43-4B37-92D1-D0FC4C04AFE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реотип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5760" y="1523880"/>
            <a:ext cx="823248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2F1B-5A42-4555-9FC7-C994C86603B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5. Профил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но ориентированные язы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ain (problem) specific (oriented)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яжеловесное «расширение» – изменение метамодели (мета моделирование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Нет огранич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совместимост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овесное «расширение» –  добавление стереотипов (профилирование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Полная совместимост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льзя изменить сам язы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иль – пакет стереотип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9B1C-1D2D-43D0-89BB-00E28837AA8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сущност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1.x &amp;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840" y="837720"/>
            <a:ext cx="89298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lass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бъект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Интерфей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terfac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mponent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йствующее лиц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ctor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ариант использ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se cas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операц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llaboration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Уз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ode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еденческ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ctiv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ирующ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к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cka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нотационн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чание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59B1-CB32-4E12-BD49-F4D99DCC9C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6. Общие свойства модел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rrectnes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яет инструмен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тиворечивость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forme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яем 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т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nes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достижима и не нуж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антические вариаци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emantic variation poin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ическая или динамическая классификация? Зарыто глубок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60A6-78A4-4AEA-83F5-FFDD60ED129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UML состоит из описания сущностей и отношений между ни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модели группируются в диаграммы и представления для наилучшего описания моделируемой системы с различных точек зр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лучае необходимости элементы UML могут быть расширены и переопределены средствами самого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6A04-291C-47D2-9DFF-F215F45883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для структурных сущносте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 1.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1295280"/>
          <a:ext cx="8305560" cy="5160960"/>
        </p:xfrm>
        <a:graphic>
          <a:graphicData uri="http://schemas.openxmlformats.org/drawingml/2006/table">
            <a:tbl>
              <a:tblPr/>
              <a:tblGrid>
                <a:gridCol w="4838040"/>
                <a:gridCol w="34675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ующее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фей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п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использ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1181160" cy="615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03760" y="2720880"/>
            <a:ext cx="1254240" cy="64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543800" y="1905120"/>
            <a:ext cx="363600" cy="1073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10280" y="3733920"/>
            <a:ext cx="1305000" cy="50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019920" y="4495680"/>
            <a:ext cx="771480" cy="4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315200" y="5105520"/>
            <a:ext cx="101772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867280" y="5486400"/>
            <a:ext cx="835200" cy="83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D41E-7C24-4B62-A188-4308E144C5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тация для других сущносте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ML 1.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92000" y="1676520"/>
          <a:ext cx="7894800" cy="4775040"/>
        </p:xfrm>
        <a:graphic>
          <a:graphicData uri="http://schemas.openxmlformats.org/drawingml/2006/table">
            <a:tbl>
              <a:tblPr/>
              <a:tblGrid>
                <a:gridCol w="4578480"/>
                <a:gridCol w="331632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лка / сли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влени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1251000" cy="920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975360" y="2495520"/>
            <a:ext cx="1406520" cy="701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15000" y="4876920"/>
            <a:ext cx="731880" cy="687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543800" y="5762520"/>
            <a:ext cx="873000" cy="59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95880" y="3657600"/>
            <a:ext cx="544680" cy="10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772400" y="4343400"/>
            <a:ext cx="274680" cy="27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6275-EB00-4279-9ECB-494E7A2C83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менения нотации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7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ик со значком для структурных сущностей вместо специальных фигу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оставляемые и требуемые интерфейс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мки диаграмм и рамки шагов на диаграммах последователь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оженность диаграмм в фигуры (структурированные классификаторы и составные состояния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ты на границах составных фигу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56360" y="800280"/>
            <a:ext cx="1476360" cy="90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08720" y="1881360"/>
            <a:ext cx="3635280" cy="90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56280" y="2151000"/>
            <a:ext cx="3087720" cy="4707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050920" y="5373720"/>
            <a:ext cx="4238640" cy="120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D587-A6A5-443C-A2A2-DA8AF948F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ependenc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симое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висимо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ssoci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грегиров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aggreg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mposi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generaliz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омо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о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implement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201636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391520" y="2286000"/>
            <a:ext cx="955440" cy="60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781680" y="3124080"/>
            <a:ext cx="2111400" cy="1028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467480" y="2824200"/>
            <a:ext cx="1187640" cy="60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803760" y="4116240"/>
            <a:ext cx="1987560" cy="1159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876920" y="5257800"/>
            <a:ext cx="2139840" cy="12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C217-9A98-4D2C-9C10-AA892AC949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31T10:28:39Z</dcterms:modified>
  <cp:revision>59</cp:revision>
  <dc:subject/>
  <dc:title>OO Analysis &amp; Design with UML (elementary)</dc:title>
</cp:coreProperties>
</file>