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2703-91CD-4DA9-8B2B-001CFB9BC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9144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09960"/>
            <a:ext cx="9144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4252-0906-41B7-86D7-B83A7A412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0996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0996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D957-1024-4C1C-9A76-90BFD571C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108900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108900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0996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0996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09960"/>
            <a:ext cx="2944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FE09-BBAB-4E02-8214-873116D874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089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60CA-58EA-481F-851F-87270BC518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1E4E-6C3A-4318-8623-71E64967C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4462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1089000"/>
            <a:ext cx="4462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7D40-335B-4893-949D-0AC993A2E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758B-5E3C-44FD-AF33-4F4BB951F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E898-0191-440F-A291-11C98E52F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1089000"/>
            <a:ext cx="4462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0996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D6B7-3C24-40E3-85B5-0AE62F30C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4462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0996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CC78-B65E-4373-A2CB-E5A448812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089000"/>
            <a:ext cx="4462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09960"/>
            <a:ext cx="9144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CEAE-E7AB-4F44-9340-906ECFC21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89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89360"/>
            <a:ext cx="6516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.А. Нов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L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В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0000" y="6524280"/>
            <a:ext cx="1763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58F9-3A1B-4173-B08E-00D8D2D52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edornovikov@rambler.r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fedornovikov@rambler.com" TargetMode="External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хнологии моделирования и анализа в разработке программного обеспечения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едор Александрови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edornovikov@rambler.r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1. Что такое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433520"/>
            <a:ext cx="91440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= Unified Modeling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т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гмати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vs.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нифицированны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версальный? Единый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C1C55-F4C4-45AF-BD71-2EB18DFBA3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51280" y="3860640"/>
            <a:ext cx="2160720" cy="14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язы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295280"/>
          <a:ext cx="8686440" cy="5181480"/>
        </p:xfrm>
        <a:graphic>
          <a:graphicData uri="http://schemas.openxmlformats.org/drawingml/2006/table">
            <a:tbl>
              <a:tblPr/>
              <a:tblGrid>
                <a:gridCol w="2895480"/>
                <a:gridCol w="2895120"/>
                <a:gridCol w="2895840"/>
              </a:tblGrid>
              <a:tr h="17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орма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усств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ка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перан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5181480" y="4038480"/>
            <a:ext cx="12956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2D82-3F40-4B2D-A27F-CDD69DD6A1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язык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одел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890720"/>
            <a:ext cx="914400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зненный цикл прилож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процесса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– главный артефакт фазы проектирования итеративного процесса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– составление и использование модел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A37F-9BAA-409C-9D30-A598B62897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 rot="16200000">
            <a:off x="-2057400" y="2895480"/>
            <a:ext cx="5790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изненный цикл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5829120" cy="62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76CA-14C5-4760-9A2D-B006745570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еративный процесс разработ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5365-66E7-4F8F-A65A-C070EE56D6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унифицированны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зык моделирова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7680" y="1983960"/>
            <a:ext cx="88059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ий контекс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путем объединения и унифика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ы и международное сообществ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е тенденц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29C9-A3F5-48AA-A563-8851CD7BB8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чески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73280"/>
            <a:ext cx="83818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роглиф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-схе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технолог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потоков данн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DF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ы «сущность-связь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ER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ология структурного анализа и проектирова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AD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D60D-868B-441C-9348-BEDC3B511A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62120" y="2035080"/>
          <a:ext cx="7619760" cy="44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5080"/>
                    <a:ext cx="761976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334120" y="1371600"/>
            <a:ext cx="26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ML 1.4 10/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64000" y="1773000"/>
            <a:ext cx="360360" cy="53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657360"/>
            <a:ext cx="26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UML 1.5 11/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944640"/>
            <a:ext cx="36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ML 2.0 8.03-9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40360" y="1052640"/>
            <a:ext cx="432000" cy="396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851280" y="1305000"/>
            <a:ext cx="14414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1773360"/>
            <a:ext cx="38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урс 1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79640" y="1449000"/>
            <a:ext cx="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EE10-B53F-451A-924D-B3A96CB1C6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кущее состоя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6360" y="249408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22780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310500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55736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22766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8360" y="310500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19640" y="15922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314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31417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155736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69080" y="2314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35640" y="314172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48360" y="15937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2492280"/>
            <a:ext cx="3024360" cy="1224000"/>
          </a:xfrm>
          <a:custGeom>
            <a:avLst/>
            <a:gdLst/>
            <a:ahLst/>
            <a:rect l="l" t="t" r="r" b="b"/>
            <a:pathLst>
              <a:path w="1542" h="658">
                <a:moveTo>
                  <a:pt x="0" y="0"/>
                </a:moveTo>
                <a:cubicBezTo>
                  <a:pt x="336" y="70"/>
                  <a:pt x="673" y="140"/>
                  <a:pt x="930" y="250"/>
                </a:cubicBezTo>
                <a:cubicBezTo>
                  <a:pt x="1187" y="360"/>
                  <a:pt x="1432" y="582"/>
                  <a:pt x="1542" y="65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1592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ML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3968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Инструментальная поддерж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11280" y="4581360"/>
            <a:ext cx="5977080" cy="1619280"/>
          </a:xfrm>
          <a:custGeom>
            <a:avLst/>
            <a:gdLst/>
            <a:ahLst/>
            <a:rect l="l" t="t" r="r" b="b"/>
            <a:pathLst>
              <a:path w="3765" h="1020">
                <a:moveTo>
                  <a:pt x="0" y="1020"/>
                </a:moveTo>
                <a:cubicBezTo>
                  <a:pt x="355" y="780"/>
                  <a:pt x="711" y="540"/>
                  <a:pt x="1180" y="431"/>
                </a:cubicBezTo>
                <a:cubicBezTo>
                  <a:pt x="1649" y="322"/>
                  <a:pt x="2382" y="435"/>
                  <a:pt x="2813" y="363"/>
                </a:cubicBezTo>
                <a:cubicBezTo>
                  <a:pt x="3244" y="291"/>
                  <a:pt x="3595" y="64"/>
                  <a:pt x="3765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5186520"/>
            <a:ext cx="3024000" cy="539640"/>
          </a:xfrm>
          <a:custGeom>
            <a:avLst/>
            <a:gdLst/>
            <a:ahLst/>
            <a:rect l="l" t="t" r="r" b="b"/>
            <a:pathLst>
              <a:path w="1905" h="340">
                <a:moveTo>
                  <a:pt x="0" y="0"/>
                </a:moveTo>
                <a:cubicBezTo>
                  <a:pt x="555" y="16"/>
                  <a:pt x="1111" y="33"/>
                  <a:pt x="1428" y="90"/>
                </a:cubicBezTo>
                <a:cubicBezTo>
                  <a:pt x="1745" y="147"/>
                  <a:pt x="1825" y="298"/>
                  <a:pt x="1905" y="3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584208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дея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0360" y="40417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24360" y="4653000"/>
            <a:ext cx="23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6058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16720" y="3645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72360" y="23115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23080" y="306864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43640" y="728640"/>
            <a:ext cx="1476360" cy="10447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5337000"/>
            <a:ext cx="900000" cy="55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43280" y="5373720"/>
            <a:ext cx="900000" cy="55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1080" y="4834080"/>
            <a:ext cx="900000" cy="55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8136-036C-43CE-874F-56B1FBD3F2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240" y="1608120"/>
            <a:ext cx="9147240" cy="3641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м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коб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60A3-3B34-49BC-9395-FA645573E7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ансформация плана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27280" y="1015920"/>
            <a:ext cx="471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0" y="1052640"/>
            <a:ext cx="4495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 моделирования в процессе разработ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 визуального моделирования и спецификаци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D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D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концепции унифицированного языка моделирова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рование данных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ия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процесс разработ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концепции модельно-центрированной разработк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D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56000" y="1449360"/>
            <a:ext cx="97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56000" y="5589720"/>
            <a:ext cx="133200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456000" y="5553000"/>
            <a:ext cx="1224000" cy="3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492360" y="4834080"/>
            <a:ext cx="1224000" cy="25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3280" y="4867200"/>
            <a:ext cx="1008000" cy="577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66920" y="2457360"/>
            <a:ext cx="1692360" cy="29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564000" y="2168280"/>
            <a:ext cx="118728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879640" y="2889000"/>
            <a:ext cx="1908360" cy="826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64000" y="3536640"/>
            <a:ext cx="1187280" cy="4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672000" y="4184280"/>
            <a:ext cx="1152360" cy="25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1449360"/>
            <a:ext cx="1474920" cy="450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7288-2123-4D7F-8998-995FAAA929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2. Назначени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80960"/>
            <a:ext cx="8458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=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Спецификаци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льна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но наглядн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Визуализ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общени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Проектирова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ы (конструирование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 Документирова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артефакт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FBF6-E89A-473B-9FDC-818BBAC954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льные специфика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453680"/>
            <a:ext cx="891540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фикация = описание 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нимании заказчик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нимании разработчик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амом дел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ая формальная (математическая) спецификация возможна, но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м спецификации больше объема к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и дороже программис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лучшая спецификация программы – к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лизация дороже автоматиз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лизованная спецификация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36D2-6A48-4AB6-84BF-0BD30CF012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зуализа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999800"/>
            <a:ext cx="8153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хой текс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текст с картинкам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инки с текстом = комиксы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27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DFE5-AD90-41A4-A3C0-70CE24BB36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ектирование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5368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матический синтез программ алгоритмически неразрешим (как массовая проблем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вестны разрешимые подкласс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ичная генерация кода возмож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ора на стереотипные компон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rse engineering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???обратное проектирование) !инженерный анализ програм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недисциплинированных лентяе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B817-6C21-4E09-8288-E3557E93CA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ументирован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890720"/>
            <a:ext cx="758196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лементы моделе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ут содержать текстовые опис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ти все инструменты умеют собирать из н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смыслен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окуме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т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икт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з программистов не пишет текс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6951-4094-46B0-9B07-C13501194C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3. Способы использования язы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233360"/>
            <a:ext cx="86598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исование картинок 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мен информацией 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фикация систем 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ное использование архитектурных решен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нерация кода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ификация моделей  ?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B29A-52C9-46E4-A5BC-671475A638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струментальная поддерж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6040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16720" y="1376280"/>
            <a:ext cx="226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966920" y="1628640"/>
            <a:ext cx="576360" cy="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08000" y="2241720"/>
            <a:ext cx="1008360" cy="718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824000" y="2924280"/>
            <a:ext cx="86364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F096-88D5-4B95-B35A-4A75D4309C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ем НЕ являетс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890720"/>
            <a:ext cx="873612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зыком программ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я генерация кода не возбраняетс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фикацией инструмент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я инструменты подразумеваются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ю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ogether, Rose, Modeler, Visio, Argo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ью процесс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я модель необходим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имее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ational Unified Proces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ied Software Development Proc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DEB8-654E-499B-ACD7-9C69487925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4. Структура определения язык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9680" y="1219320"/>
            <a:ext cx="8643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ность 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ность: компромис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тыре уровня модел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 метамодел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С грамматик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модел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крут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антика = Диаграммы класс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bstract syntax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Ограничения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+ Тек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Englis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тация = Отображение семантики в картинки (а не наоборот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L 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О язык первого порядка с равенством и ограниченными квантор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ED7F-2B6C-462C-A2DB-549E4E941B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MG UML Specification 1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360" y="1526760"/>
            <a:ext cx="66294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Summ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Semantic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Notation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Extens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CORB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XMI DT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5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ss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2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страни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1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1D23-1ED2-4423-A10C-BB980DE0AA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иков Федор Александрови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edornovikov@rambler.r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MG UML Specification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16000" y="1089000"/>
            <a:ext cx="854712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UML 2.0 Superstructure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6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UML 2.0 Infrastructure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1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UML 2.0 Diagram Interchang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03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Extens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MOF Metamod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CORB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XMI D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о страни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F173-A10D-4B89-A95C-430F38CF8A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метамодел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5680" y="765000"/>
            <a:ext cx="8429400" cy="532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756A-4593-4E22-87E0-296CB1270F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 объяснения понят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87280" y="1088640"/>
            <a:ext cx="8640720" cy="52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я – откуда это взялос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гматика – зачем это нужн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антика – на сквозном пример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тация – все элементы по раз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модель – упрощенный абстрактный синтакси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е – по принципу 8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% языка достаточно для 80% случае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9AAB-CB07-4DDC-9479-537C7ABC0E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367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5. (1) Терминолог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900108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од термино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русск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М. Вендров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Distille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лохо для нача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A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инкин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User Guid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едено по словар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В. Леоненков (Самоучитель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 и А. Максимовы (Справочник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дактор Ф.А. Нов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. Солнышков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спел повлиять </a:t>
            </a:r>
            <a:r>
              <a:rPr b="1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6BB4-A960-4456-A1C2-61E986BB3C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5. (2) Доступная и рекомендуемая литератур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36480"/>
            <a:ext cx="914400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Language Referenc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Amigo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справочник (Питер, 200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ML 2-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 издание (Питер, 200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Distilled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rtin Fowl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amp; Kendall Scot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ы (Символ, 200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ратком изложении (Мир, 199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User Guid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Amigo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ство пользовател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ДМК, 2000, Питер 20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учитель (Леоненков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БХВ, 2001, 20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1745-F2E3-4DEB-B8D0-F21BEB9777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5. (3) Нотац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тац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гуры – двумерные с внутренность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ии – одномерные с наружность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ки – двумерные с наружность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рис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o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лично РИСУЕТ – не меша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e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ИСУЕТ – старае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иво РИСУЕТ – иногда слишк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o UM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еплохо РИСУЕТ, но устает и падает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ный стиль и вари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-белый без излишеств для печа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ый – элемент модели,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иний – мой комментар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BECD-BDE7-4B22-86A5-853B027DAA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6000" y="914040"/>
            <a:ext cx="87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ще один формальный язык, который необходимо быстро освои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необходимым, но не является достаточным условием построения разумных модел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ет синтаксис, семантику и прагматику, которые нужно использовать с учетом особенностей фактического инструмен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F39E-3478-4225-AE38-F1528C6A7D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курса с упражнениям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нденции развит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0" y="99072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ющие лица и варианты исполь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ы и отношения между ни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маты, блок-схемы и коопер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вый семина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2D71-E9C8-4148-8D2F-3D7CD4C31B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5760" y="0"/>
            <a:ext cx="89582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и и задачи курс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570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сное понимание основных идей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ние базовых конструкций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.х +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ML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обретение практических навыков моделирования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конкретным инструментом моделир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знание тенденций развит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9848-D98B-4DDC-AED8-29A0BC8F06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веряемые результаты курс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890720"/>
            <a:ext cx="91440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ивидуально созданный артефакт – синтаксически правильные модели использования, структуры и поведения реального прилож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тельная презентация модели с использованием технических средств продолжительностью полчаса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55C9-8E45-4E90-8165-2D6D16B3E9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лиз и проектирование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лекц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4560" y="1191960"/>
            <a:ext cx="7419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ведение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зор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использов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структу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ирование повед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 моделям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и развития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роцесс разработ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9999-2C15-419C-888F-50B8146144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160" y="0"/>
            <a:ext cx="90518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Введение 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UM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89036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Что тако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2. Назнач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3. Способы использования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4. Структура определения язы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5. Терминология, литература, нот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edor Noviko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7D05-6B91-4C82-8458-EAA942A3D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09:46:45Z</dcterms:created>
  <dc:creator>Fedor A. Novikov</dc:creator>
  <dc:description/>
  <dc:language>en-US</dc:language>
  <cp:lastModifiedBy>Fedor Novikov</cp:lastModifiedBy>
  <dcterms:modified xsi:type="dcterms:W3CDTF">2006-03-31T07:59:26Z</dcterms:modified>
  <cp:revision>54</cp:revision>
  <dc:subject/>
  <dc:title>OO Analysis &amp; Design with UML (elementary)</dc:title>
</cp:coreProperties>
</file>