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AC9A-070F-48D4-B644-EAAB56D03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60792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46F4-55A4-427F-84FF-EEA67621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ABF9-057A-4BB2-913E-528CE7CFE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9228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60792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AD4C-8DF2-4B4D-994A-571480174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146B-9DBB-484E-8391-D29F78A69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DB2A-201F-461C-A109-B4845ED67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ABC3-C2A0-4C60-BEFC-B7DFEFCA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D32C-B146-4D4E-8682-E10F73D0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83F9-2657-4C00-B9F5-6D2D2D749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1753-BCB1-4466-9C80-5C7774AE3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60792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35F2-5CA4-4EE5-87CD-5ED2E774F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9228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60792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ACCF-0F7E-450B-920F-F5FF0EF64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24640"/>
            <a:ext cx="6443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5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24640"/>
            <a:ext cx="25909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8CAB-AF56-4489-BBFB-0A1A29C10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ирование конечных автома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:=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stat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mulus := get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s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 stim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9E8C-07C6-4530-B555-A8F3A806AA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ремя жизни объект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852480"/>
          <a:ext cx="8520120" cy="60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52480"/>
                    <a:ext cx="85201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5746-A98E-467B-BB40-F6F7A68E8D3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6792-C70A-45B7-BC88-B42D5806DAC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31099" b="58786"/>
          <a:stretch/>
        </p:blipFill>
        <p:spPr>
          <a:xfrm>
            <a:off x="216000" y="981000"/>
            <a:ext cx="875988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2AE6-971B-4EEF-B141-E52E109D980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ереотипы полюса ассоциаци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765000"/>
          <a:ext cx="91440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D2DF-75DF-4D2C-8128-139EA4A99AE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рисование многоуголь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7240" cy="563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5D07-F993-4DDC-9ACB-51A69E89E7C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диаграмме кооперац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66D6-B0BF-4931-9303-D9D2F4CB58F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льтиобъект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, 2.0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914724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D90E-84C2-40E9-842F-C3B06DA6CCB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7. Моделирование параллелиз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изм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= взаимодействие последовательных проце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ьные состояния 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ые переход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и, соединения и обусловленные потоки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я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инхронные сигна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и процес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ые классы и объек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820B-753F-473D-B463-21DF587DE89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назначение сотрудника на должн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9144000" cy="25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8B9F-293E-4F5C-97C5-76A3425EEE9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менение состояний при выполнении операци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744560"/>
            <a:ext cx="914400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BA0C-1C0A-4C07-8DA6-D4E65A59E6F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ное программир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Mod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рова (200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TCH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я Шалыто (199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is.ifmo.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технология Вельбицкого (197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ределенная архитектур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версальный образец проект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быт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правляющие автома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бъек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41CD-FD7C-4680-A345-138279FF7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5040" y="-360"/>
            <a:ext cx="82389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 класс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3390-BA1F-492D-A493-652BBC1D337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8494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 класс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797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940360" y="3860640"/>
            <a:ext cx="3024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/thePosition:=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/thePosition.fre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3AC7-176A-4D71-8205-1A663A9F1DB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й пример сценар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F116-7C45-4B7D-B3D1-F9A89145D8F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торой пример сценар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1593720"/>
            <a:ext cx="9144000" cy="526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CCC3-85F4-4B87-8967-AE317B59619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9160" y="-360"/>
            <a:ext cx="8729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а 1: взаимная рекурс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C648-86FB-45E0-A05E-80ECAF02807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шибка 2: взаимная блокиров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643040" y="762120"/>
            <a:ext cx="585792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D2F1-05B3-4326-95AB-D43980F9EC4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ллельные составные состоя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составные перех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последовательное состояние: множество состояний вложенных автоматов – путь в дереве вложен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параллельное состояние: гиперпуть в дереве И/И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й переход: переход из составного состояния в и/или из составного состоя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: развилки / слияния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6250-802E-4378-AEE8-FA053E5348C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о составных последовательных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611360"/>
            <a:ext cx="9144000" cy="36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E679-00F6-465B-8147-8B7C54404C2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тогонально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ставн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16000" y="1305000"/>
            <a:ext cx="8690040" cy="52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9594-7342-4D28-A98D-C44D0B4E886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ево И/ИЛ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1825560"/>
            <a:ext cx="8799480" cy="32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2D62-6500-47BF-83AA-9958C9D8B3B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2. Диаграммы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18960"/>
            <a:ext cx="8480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t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imp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mpos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pseud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transi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ur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v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guard condi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c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targ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98B0-2926-4514-B947-A5585D861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23960" y="914400"/>
            <a:ext cx="7696080" cy="56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9486-61D1-4B79-A0E1-6DD4F9FF1D10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н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8F0F-6D40-4BA5-BB0A-6EC7704EDE3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хронизирующие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9440" y="1371600"/>
            <a:ext cx="8385120" cy="517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5BD7-5C46-498F-986B-5BEC82B1F29B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хронизирующий объект в состояни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, 2.0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1680" y="1387440"/>
            <a:ext cx="853740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395C-4260-45B7-A644-7A6E084046A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сатель –  читател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10000" t="4092" r="23543" b="59763"/>
          <a:stretch/>
        </p:blipFill>
        <p:spPr>
          <a:xfrm>
            <a:off x="33480" y="1270080"/>
            <a:ext cx="882324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FF14-52F1-4B29-91E3-F4123DB67BE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вилки и соеди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160280"/>
            <a:ext cx="84582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зипараллельные потоки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fork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вход, 2..* выхо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oi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.* входов, один вых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хронизация в точке слия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анс развилок / соедин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8435-7C97-4CD1-804C-47CC309F92AC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ланс развилок и соедин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04920" y="1155600"/>
            <a:ext cx="85341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B852-B645-41BD-AD0D-8B8592E7726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Перевод сотруд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52480" y="738360"/>
            <a:ext cx="6527880" cy="585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937A-6BB8-43B4-9DA7-BB707D6229B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условленный поток управ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7165800" cy="60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DE74-09F6-4B2F-8B82-B38B17BE1C3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ражение обусловленного потока управления через ветвле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04EF-01B5-49AA-8F99-83FF7BD1A72F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-360"/>
            <a:ext cx="8888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машины состоя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3800" y="620640"/>
            <a:ext cx="8080200" cy="56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FC57-4EAE-44EE-98D0-730FB29DF4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гнал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6000" y="914400"/>
            <a:ext cx="8928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 – это именованный объект, который создается другим объектом (отправителем) и перехватывается третьим объектом (получателем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ный случай сигнал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, как объект, может иметь атрибуты (т.е. параметр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диаграмме классов сигнал связывается с отправителем зависимостью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вязывается с получателем объявлением операции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7327-64E8-48FE-8B82-CAAE937D42D7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обработка исключительных ситуац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57120" y="2133720"/>
            <a:ext cx="9531360" cy="32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0246-A7D2-4133-869D-7FE0219978CD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обработка исключительных ситуац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18524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3FF8-A8D3-4F14-8240-D140824330ED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thread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роцесс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258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ываются как активный класс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ли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 : жирный прямоугольник (1.х) или двойные линии на боковых сторонах (2.0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 такого класса моделирует отдельный поток управ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 м.б. нарисована кооперация взаимодействующих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E335-4C62-459E-84C1-E7EFF7194E0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ые автоматы — базовая алгоритмическая техника моделирования повед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 — вариант конечного автомата с различными дополнен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ятельности (= блок-схема) — частный случай диаграммы состояний с различными дополнен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ы кооперации и последовательности (диаграммы взаимодействия) семантически эквиваленты и являются протоколами выполнения (примерами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изм на уровне программы моделируется с помощью взаимодействующих машин состояни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изм на уровне операционной системы моделируется активными объект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0674-D2D2-4ABF-9359-5602F399BD10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(в 2.0 м.б. анонимные состояния!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и вхо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при выхо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ие переходы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ansitio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ходы в себ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яя актив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молчанию - ожид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оженные событ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кирование прерыва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4C85-ECAD-48B9-8D31-34AD1009E4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ое состояние сотрудни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98288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17BC-A2CB-4A44-8F71-B9C76364A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21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й фрагмен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85264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вивалентный фраг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480" y="838080"/>
            <a:ext cx="9029520" cy="2011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3392640"/>
            <a:ext cx="8690040" cy="33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BE0D-521E-455A-ADBE-FD3ADEA2D6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я на входе, выходе и переход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1680" y="2496960"/>
            <a:ext cx="8537400" cy="18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E34B5-4763-453F-A537-3E725F3C94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052640"/>
            <a:ext cx="84582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, Вызов, Таймер, Изменение состоя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озникает событие, переход возбужда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рожевое услов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переход срабат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переход не срабатывает и событие теря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/ Действ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яется, если переход срабатыва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DEC3-0FD1-40DC-BE9D-885B151AD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простой перехо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600" y="2222640"/>
            <a:ext cx="8763120" cy="36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2769-3BFA-4CCD-8CF1-D1DD1CA200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419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9831-0D65-4F58-96ED-250A19653C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ментированные переход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переходные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6000" y="1084320"/>
            <a:ext cx="8254800" cy="57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E002-615B-4893-BD3E-52B815C9B8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ие предика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7960" y="1168560"/>
            <a:ext cx="8128080" cy="568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23623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8862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el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9BB9-ABA7-477B-AC47-4422B7937B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ование простых переход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60DD-FF53-45DA-9AF5-3CAB1FA5CB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простого переход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08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B253-8B2E-4EC1-9780-C546A524D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ИС О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блица состояний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1676520"/>
          <a:ext cx="7619760" cy="46479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ь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ид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ести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и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ь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A773-8FDC-4817-981A-3A2256F50D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773360"/>
            <a:ext cx="8382240" cy="33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4269-4569-4934-9E4E-75A678B165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ные и специальные состояни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360" y="1428840"/>
            <a:ext cx="9144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ое состояние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овательное = вложенный автома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тогональ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несколько автом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ое состояние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о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ительное состояни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вух вид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но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ое состояние (в двух вариантах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хронизирующее состоя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сылочное состояние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ложенный автом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ubmachine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е "заглушка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чки в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 poi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хо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xit poi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2927-A5C0-40D2-B570-BC706AE2E7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я сотрудн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743040"/>
            <a:ext cx="8242200" cy="61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5A1D-C6D2-4788-A04B-7822CEDC7E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офор (составные состояния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68360" y="657360"/>
            <a:ext cx="716616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B078-B63A-4F7F-9FEA-3A5B72D519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етофор (простые состояния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05920" cy="580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332F-CD36-4D5F-ADCA-788336F97F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 Моделирование повед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60280"/>
            <a:ext cx="91440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1. Конечные автом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2. Диаграммы состоя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3. 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4. Диаграммы взаимодейст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5. Диаграммы коммун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6. Диаграммы последова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7. Моделирование параллелиз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F4F0-57F5-45EE-82B3-E3CF93D0B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редные сов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йте имена состояний, которые предлагает инструмент: State1, State2 и т. 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рисуйте более одного заключительного состоя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те столько вложенных состояний, сколько поместится на листе, но ни в коем случае не используйте переход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жд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ставными состояния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опускайте ситуации, когда переход из начального состояния ведет в простое состояние той же машины состояний: такой переход должен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сек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сколько границ составных состоя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F928-D959-4C9F-A82A-954D92D49C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ы между составными состояни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508040"/>
          <a:ext cx="1067112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1067112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57DA-975C-486A-9A3F-F7EAF76E76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о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" y="1546200"/>
            <a:ext cx="9147240" cy="37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DBDE-846B-4BE5-AFB7-B96B959EF0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сылочное состояние и заглушка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240" y="1368360"/>
            <a:ext cx="9147240" cy="41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5728-814D-43D6-AD6E-9D7184ED79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1640" y="1233360"/>
            <a:ext cx="8305920" cy="501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сылочное состояние и заглушка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2B3C-E04A-49EE-91DA-5A81B59491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оженные машины состояний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8999" t="7397" r="32813" b="63026"/>
          <a:stretch/>
        </p:blipFill>
        <p:spPr>
          <a:xfrm>
            <a:off x="720720" y="693720"/>
            <a:ext cx="80643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F415-8FD3-4D6F-B247-AEAD914AA7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оженные машины состояний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847" t="23375" r="21704" b="44975"/>
          <a:stretch/>
        </p:blipFill>
        <p:spPr>
          <a:xfrm>
            <a:off x="36360" y="1015920"/>
            <a:ext cx="910764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20AF-CC13-4B83-AD32-FF9228C1DD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стоя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99480" cy="668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C3AA-7F1E-4702-AE5D-F893BFE3EA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060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е – передаются между системой и действующими лиц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 – передаются между объектами внутри систе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1.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зличаются,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аются – событие от точки вх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ы событ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з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ll ev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ev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м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ime ev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v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27CD-3F17-45C9-A330-AB58F13C72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266480"/>
            <a:ext cx="84582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ат моделирует поведения объекта – вызов операции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 иметь аргументы и возвращать результ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распространенный случа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4195800"/>
            <a:ext cx="350496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B106-F126-4AB1-8FD4-F1484B2F92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1. Конечные автома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34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ной алфав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фавит состоя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переходо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ной алфав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…,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выходов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 М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 М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Q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ое состоя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ительные состоя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06DE-D68F-4E4F-8554-B832E4C04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240" y="1859040"/>
            <a:ext cx="9147240" cy="31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A197-DBCB-4D75-B569-AFBB4E1A7A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144000" cy="39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1227-5227-42DC-A4D9-7C3EFA47D8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изме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017360"/>
            <a:ext cx="89154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е изменения наступает, когда значение выражения станов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можен эффективный дем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ые указатели от использующих вхождений к определяюще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тные указатели от определяющего вхождения к использующи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1160" y="4687920"/>
            <a:ext cx="731844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62F7-596E-48DA-83E1-F612124790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таймер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345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, доставляющее длину интервала времен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ытия времени применяются на переходах в автомата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чет времени (момент 0) связывается с моментом входа в текущее состоя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ймеры состояний независи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4680000"/>
            <a:ext cx="792468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BFF9-4C4F-4E5D-91DA-E94D3C1363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ймер и «абсолютное» врем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4464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тандар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eve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но подразумеваются ЧАСЫ, а не ВРЕМ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: «событие таймера», а не «событие во времен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задать переход по астрономическому времени (системным часам!), используется СОБЫТИЕ ИЗМЕН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(date = “1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преля 2006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F86F-699F-4A36-98EB-20E259F3AA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ытие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ытие сигнала наступает, когда послан сигна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гнал – класс со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рибуты сигнала = парамет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ая иерархия обобщений сигнало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ылка сигнала = создание объ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принимает сигнал = имеет операцию с именем сигнала и стереотипом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ковещательный сигнал: посылается множеству объе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= частный случай сигнал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BB8F-68DD-4B60-BCAF-BF75AEDE0B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FEF2-8825-427F-9052-A403AE1B3B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ылка сигнал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7240" cy="3670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ход по событию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4440" y="5172120"/>
            <a:ext cx="8115120" cy="16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EA10-9CD1-4C96-BFD3-63F36D5BA6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быт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623360" cy="57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9F09-6AD4-437E-9C17-784917640C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токольный автома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назначен для задания допустимых последовательностей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ереходах нет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чевое слов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{protocol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44334" b="70187"/>
          <a:stretch/>
        </p:blipFill>
        <p:spPr>
          <a:xfrm>
            <a:off x="719280" y="2924280"/>
            <a:ext cx="6697440" cy="347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B1F6-74D3-4D5E-9794-7BDEB6676C2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ификации конечных автома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160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я переходов с побочным эффектом = процедура реа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: запись/чтение на потенциально бесконечную лент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машина Тьюринг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кци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h, po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стековая память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азинный автом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 одного на входы других: взаимодействующи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я одного являются входами другого: взаимодействующи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3B55-5A95-41DC-A6E9-8A7DD5FF2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3. Диаграммы деятельно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3818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transit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cisio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лки и слия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fork &amp; joi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рож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wim lan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ектория объект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flow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 и прием сигна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рывания и исключения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FD36-94E9-45B8-9825-EB1BF71AFDC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ового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зависимая семантика марке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ки управления и/или потоки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оженность (структурная декомпози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разделов (дорожек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ботка множеств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изация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енный набор действий (из 1.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ючения и преры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условия и постусловия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6E4F-DA32-47B3-B3CB-C2442A20B03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антика маркеров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512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р управлени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flow tok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(пустой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кер данны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a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 toke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со ссылкой на объект или структуру данных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лы – действия с контактам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, параметры, объект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ata store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ра управления и ребра данных соединяют уз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возникают, перемещаются и исчезаю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ое состояние создает маркер управления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аметр деятельности созд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контакт действия поглощ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контакт действия создает маркер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ительное состояние поглощает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лка размножает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единение склеивает маркеры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твление направляет маркер управления или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е выполнения дей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ра данных, входящие во все входные контакты, готовы передать маркеры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есть входящие ребра управления, то хотя бы одно готово передать маркер управл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 выполнения дей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ребра данных, выходящие из выходных контактов, готовы передать маркеры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есть исходящие ребра управления, то все готовы передать маркер управления (но маркер один – конкуренция, кто первый готов, тот и получит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02A3-76C6-43B7-A0DB-DE8E995FDC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ие и деятельность 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ML 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томарно (не может быть прерван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ается (всегда и сам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 (время выполнения мало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действий = действ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ите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йств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ctiv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быть прервана событие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продолжаться неограниченно дол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E680-7B89-4944-9647-A4400ED5450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действий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.1-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ваивание знач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зов опер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объек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чтожение объек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врат зна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 сигна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интерпретируемое действ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0F4B-0C1F-4EBE-9E25-ACECB9ED950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348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1-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60600" y="0"/>
            <a:ext cx="6683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C258D-6625-4F3A-A6FB-4B6B466F935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 rot="16200000">
            <a:off x="-2895840" y="289548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е действ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шне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73520" y="0"/>
            <a:ext cx="627048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EC7C-D966-4E99-BEF6-31D167D9DEB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действий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1.5-2.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из 5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692280"/>
          <a:ext cx="9144000" cy="5732280"/>
        </p:xfrm>
        <a:graphic>
          <a:graphicData uri="http://schemas.openxmlformats.org/drawingml/2006/table">
            <a:tbl>
              <a:tblPr/>
              <a:tblGrid>
                <a:gridCol w="2448000"/>
                <a:gridCol w="2987640"/>
                <a:gridCol w="370836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sClassified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lassify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x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всех объектов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ast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овещательная передача сиг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равка сигнала как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Sig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равка сигнала со списком аргу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ние без побочных эфф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ется реализа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73AB-58BE-4795-AB47-6BCCA28B8CD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действий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1.5-2.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из 5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692280"/>
          <a:ext cx="9144000" cy="5918040"/>
        </p:xfrm>
        <a:graphic>
          <a:graphicData uri="http://schemas.openxmlformats.org/drawingml/2006/table">
            <a:tbl>
              <a:tblPr/>
              <a:tblGrid>
                <a:gridCol w="2448000"/>
                <a:gridCol w="2987640"/>
                <a:gridCol w="370836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Classifier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потока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ый вызов мет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 процед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буждение исклю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и за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Structural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чения атрибу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LinkObject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значения по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Structural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аивание значения атри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и уничт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oy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ние объ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2F36-CC1B-48B3-8481-6A9055D9141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менты диаграммы деятельности 1.х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 деятельност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йстви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: простое состояние и внутренняя активност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является деятель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0: действие, в т.ч. вызов дея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жение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: синтаксис не определ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0: синтаксис действий определяет инструм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завершении (можно и по событию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ередач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ментированный (ветвления и параллелиз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торожевыми услови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ействиями на переход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DA46-9EC6-49E7-948E-3831E1AC070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автоматы интересны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ема Райса. Все нетривиальные свойства программ алгоритмически неразрешимы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ивалент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ае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альн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таль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вестны частные случаи (автоматы), для которых есть разрешающие алгорит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9C48-C592-4099-9046-F82206836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: реализация операц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х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деятельности – частный случай машины состоя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от блок-схемы к графу переход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учшение кода на уровне диаграм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804B-A21A-4507-BCEE-E56E351F20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8381880" cy="50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2136-9D3B-4DB5-A9FA-3D4C2DAD0B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631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944280"/>
            <a:ext cx="7810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dpt.size() &gt; 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 := dpt.getNextPos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ot pos.isFree()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posOccupied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t.deletePos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il dpt.siz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Dpt(dp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AC04-F386-40BE-AC1B-810BC6F14B8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038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003560" y="0"/>
            <a:ext cx="514044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D413-B03E-4B56-969A-396488C8D13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бы это значило? (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9440" y="1863720"/>
            <a:ext cx="8385120" cy="31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9F92-1EBA-460B-B598-98C9A945319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антика «? ? ?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909800"/>
            <a:ext cx="86868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2E93-0BD1-460B-A8B4-3BD56796E78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6200000">
            <a:off x="-2742840" y="27432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70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59C7-405A-47D1-ACD6-8C1AD804549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2960" y="-360"/>
            <a:ext cx="84106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1056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le dpt.size() &gt; 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 := dpt.getNextPos(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ot pos.isFree()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posOccupied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t.deletePos(p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Dpt(dpt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7932-E9C5-458D-B61D-E7E1025F7B2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8920" y="1089000"/>
            <a:ext cx="8534160" cy="50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64C7-280C-4482-8D1A-604801CE86A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Department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49120" y="1981080"/>
            <a:ext cx="8645760" cy="41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7F79-8C9C-4C0F-8FDB-F02629E6871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849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блица конечного автома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349280"/>
          <a:ext cx="7696440" cy="489888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2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61CD-CC24-44F8-8029-75BA9C9FC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24360" y="447372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t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partment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F0D9-8DD6-4CD4-A10F-5C282FB96E1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ete Department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нотаци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8332" t="11831" r="8556" b="57702"/>
          <a:stretch/>
        </p:blipFill>
        <p:spPr>
          <a:xfrm>
            <a:off x="971640" y="1341360"/>
            <a:ext cx="781344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D82A-E1B3-4B71-92E6-2B914380D1D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3507" t="0" r="22714" b="43200"/>
          <a:stretch/>
        </p:blipFill>
        <p:spPr>
          <a:xfrm>
            <a:off x="755640" y="0"/>
            <a:ext cx="7885080" cy="69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9DEC-9A74-474D-A310-DC3B8512ABA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делы (плавательные дорожки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1.4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вольная классификация действий – графический комментар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гут быть использованы для разнесения действий по класса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ированные и ортогональные раздел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вум направлениям – по вертикали и по горизонта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дразделениями на более мелкие подраздел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тандартными стереотип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class&gt;&gt;, &lt;&lt;property&gt;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Designer 200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оддерживаю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817E-BA06-43E0-996E-E2079EE119E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9440" y="-360"/>
            <a:ext cx="84945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прие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1680" y="1235160"/>
            <a:ext cx="8537400" cy="438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BE79-DB76-4D37-8BFA-74388B1D1E1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рожки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wim la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382680"/>
            <a:ext cx="6092640" cy="60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C895-1544-4807-A900-4A9BED634CC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 rot="16200000">
            <a:off x="-2819520" y="297180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ектория объ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7920" y="87480"/>
            <a:ext cx="7416720" cy="66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C31E-EAAE-45C1-916F-E844557E69B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 rot="16200000">
            <a:off x="-2895840" y="289548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ектория объ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81080" y="415800"/>
            <a:ext cx="6705720" cy="60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7D39-7DFA-4210-97B8-F4914BC4F8D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правка и прием сигналов (1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7920" cy="60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011A-B493-45CA-8843-E45F89F55AE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7964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правка и прием сигналов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66680" y="260280"/>
            <a:ext cx="8077320" cy="607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A061-A1F6-4077-A242-B709DBC7D5F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яний 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ереход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CF95-02DE-4B41-806F-0C5BE530FF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правка и прием сигналов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16651" b="64212"/>
          <a:stretch/>
        </p:blipFill>
        <p:spPr>
          <a:xfrm>
            <a:off x="236520" y="1341360"/>
            <a:ext cx="890748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C656-2802-4D57-BEA9-D43E4F32F7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элементов диаграммы деятельности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11280" y="944640"/>
            <a:ext cx="67089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E5B7-45ED-403A-ADE1-55D70735A99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4. Диаграммы взаимодейств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560" y="1142640"/>
            <a:ext cx="8821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оммуникации и диаграммы последовательности семантически эквивале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ы: экземпляры классификаторов – классов и действующих лиц (а также узлов и компонент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и: экземпляры ассоци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я: передаются вдоль связ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2A3C-9558-40F2-A961-CC4DD9386ED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об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680" y="914040"/>
            <a:ext cx="8215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зов опер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может вызвать свою опера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ция должна быть определ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возврат знач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зывать отдельно не обязатель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осылка сигн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автома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создание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o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ничтожение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может уничтожить себ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BD9F-4AA6-441E-BE44-9F1595B27F6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сообщений на диаграммах коммуникации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а поверх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шественники / повторность номер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ереотип» переменные := ИМЯ (аргумен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шественн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номеров сообщений, предшествующих данно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рожевое услов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ерация сообщ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  = broad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C81B-8A77-4C7C-8D19-3F0B0F59D2B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сообщений на диаграммах коммуникации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.д. – не обязател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мер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ческая десятичная нумерация – отражает вложенность потоков управ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араллельные потоки, то букв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ны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возвращаемых значен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2F0A-8F61-498B-8549-97B02D27ADD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928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передачи сообщ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62120" y="1676520"/>
          <a:ext cx="7657920" cy="4394160"/>
        </p:xfrm>
        <a:graphic>
          <a:graphicData uri="http://schemas.openxmlformats.org/drawingml/2006/table">
            <a:tbl>
              <a:tblPr/>
              <a:tblGrid>
                <a:gridCol w="1682640"/>
                <a:gridCol w="597528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ере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оженны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ный поток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рат управлени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 быть добавлен инструмен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977760" cy="407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90720" y="3233880"/>
            <a:ext cx="904680" cy="388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968400" cy="404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90504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BF10-4F18-4349-8E9F-34A23AB475A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сооб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692280"/>
            <a:ext cx="883908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32A6-1714-424B-91EA-9DBFB8FB3EB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5. Диаграммы последова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160640"/>
            <a:ext cx="9001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я жизни объек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life li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ка времен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stam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аничения на врем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ержанная доставка сооб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2.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ись разновидности диаграмм последователь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ные шаг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bined Fragm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синхронизаци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 Diagra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зорная диаграм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Interaction Overview Diagra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583F-901A-4F70-86B2-A8E596226C5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ИС ОК: создание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7640" y="800280"/>
            <a:ext cx="7925040" cy="56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2E0F-E196-4991-B648-1D77C29A337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58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я автома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015560"/>
            <a:ext cx="846288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ля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ссивный пользовательский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жизненного цикла объек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едение зависит от прошло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есть асинхронные стиму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1562-E3A4-4A93-B146-F86663EA8E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ержанная доставка сообщ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0320" y="1469880"/>
            <a:ext cx="7623360" cy="538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70CD-A9EE-4EAA-BC30-F2079C13BD4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 rot="16200000">
            <a:off x="-2076480" y="2876760"/>
            <a:ext cx="57150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ивация и возв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95280" y="204840"/>
            <a:ext cx="7467840" cy="63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AAA4-4119-41AB-9425-091B57FA23F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04920" y="281160"/>
            <a:ext cx="8534160" cy="62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95D6-B80D-4C24-B3ED-7178EEF1ADE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6200000">
            <a:off x="-2362320" y="236196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ояния объекта н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е последова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00440" y="0"/>
            <a:ext cx="634356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F039-4963-4FDA-97D1-A887BD0A45B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ставные шаги взаимодейств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92280"/>
          <a:ext cx="9258480" cy="5581440"/>
        </p:xfrm>
        <a:graphic>
          <a:graphicData uri="http://schemas.openxmlformats.org/drawingml/2006/table">
            <a:tbl>
              <a:tblPr/>
              <a:tblGrid>
                <a:gridCol w="1258920"/>
                <a:gridCol w="3205080"/>
                <a:gridCol w="4794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в каждом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одной альтерна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ение в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инвари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в ша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щение супер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атриваемые со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сообщения запрещаются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норируемые со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и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ическое повторение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ещенная последова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выполнение ша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ьное выполн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е упорядоч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е упорядочение ш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7441-6D27-43D2-BF49-F4AB3A1BCBB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2648" r="20455" b="35201"/>
          <a:stretch/>
        </p:blipFill>
        <p:spPr>
          <a:xfrm>
            <a:off x="576360" y="0"/>
            <a:ext cx="7740720" cy="68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2FB5-1221-440E-9606-6590731B4A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сылка на взаимодейств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on us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1159" t="1162" r="25154" b="48050"/>
          <a:stretch/>
        </p:blipFill>
        <p:spPr>
          <a:xfrm>
            <a:off x="179280" y="909720"/>
            <a:ext cx="900108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AA40-CE74-477C-AE49-FF02B1CCB0E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зорная диаграмма взаимодействия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on Overview Diagra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ая и полезная идея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взаимодействия в форме 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место действий – диаграммы взаимодействия (последовательности или коммуникации) (ил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я и развил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поддерживается в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gether 20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4E7E-6742-41FC-A5C3-DA4B13928DB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инхронизаци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ing Diagra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ая и полезная идея из схемотехни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и абсцисс – время (в масштабе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и ординат – полоса жизни, подразделенная на состоя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я жизни – ломан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отрезок – объект в состоя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ый (или наклонный!) отрезок – смена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вертикального отрезка сообщение, вызывающее изменение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 поддерживается 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gether 20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8AFE-905A-4675-B0C9-62C47BB7E3A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.6. Диаграммы коммуникации и коопер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375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очнение понятий при сохранении общей концеп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роль классификатора = слот объект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роль (ча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роль ассоциации = слот связ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роль (соединител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х контекст взаимодейств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объектов без сообщений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0 коопер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 м.б. описан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труктурированном классификато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честве образца проектир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контексте (например, вариант использования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 является классификатором (но не классом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, нагруженная сообщениями, образует диаграмму коммуникац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UML 5. Моделирование поведе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D376-CA4D-4C3D-9148-BD8C7CC6F46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26T17:15:57Z</dcterms:modified>
  <cp:revision>79</cp:revision>
  <dc:subject/>
  <dc:title>OO Analysis &amp; Design with UML (elementary)</dc:title>
</cp:coreProperties>
</file>