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F4A96A-CACB-42E4-8A5A-5D62DCB6C5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0" y="-2304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0" y="764640"/>
            <a:ext cx="9144000" cy="27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0" y="3736080"/>
            <a:ext cx="9144000" cy="27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7679B3-5F57-4B6D-BC46-75D1EB63BF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0" y="-2304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0" y="764640"/>
            <a:ext cx="4462200" cy="27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5760" y="764640"/>
            <a:ext cx="4462200" cy="27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0" y="3736080"/>
            <a:ext cx="4462200" cy="27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5760" y="3736080"/>
            <a:ext cx="4462200" cy="27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402559-EF9F-4C07-B625-71F954458E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0" y="-2304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0" y="764640"/>
            <a:ext cx="2944080" cy="27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091680" y="764640"/>
            <a:ext cx="2944080" cy="27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83360" y="764640"/>
            <a:ext cx="2944080" cy="27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0" y="3736080"/>
            <a:ext cx="2944080" cy="27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091680" y="3736080"/>
            <a:ext cx="2944080" cy="27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83360" y="3736080"/>
            <a:ext cx="2944080" cy="27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E1952D-A965-41EF-A5B7-599862556FC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2304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0" y="764640"/>
            <a:ext cx="9144000" cy="568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E88A3A-46A0-42B9-BBE1-F7AADD28A5A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2304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764640"/>
            <a:ext cx="9144000" cy="56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ACF34E-F3D9-494F-8F09-1119594D39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-2304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0" y="764640"/>
            <a:ext cx="4462200" cy="56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5760" y="764640"/>
            <a:ext cx="4462200" cy="56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3B3D82-F3A2-4613-A18C-03FD06C0A9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2304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550524-B099-4F2F-9E10-FB5BA79B67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304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AB7A6E-8D46-47AD-8C3C-D17A1B16C1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-2304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0" y="764640"/>
            <a:ext cx="4462200" cy="27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5760" y="764640"/>
            <a:ext cx="4462200" cy="56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0" y="3736080"/>
            <a:ext cx="4462200" cy="27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B2718C-58DD-4426-B6B6-E3EDD3A3B9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-2304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0" y="764640"/>
            <a:ext cx="4462200" cy="56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5760" y="764640"/>
            <a:ext cx="4462200" cy="27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5760" y="3736080"/>
            <a:ext cx="4462200" cy="27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18A85D-083A-43E7-9440-06B9267687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0" y="-2304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0" y="764640"/>
            <a:ext cx="4462200" cy="27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5760" y="764640"/>
            <a:ext cx="4462200" cy="27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0" y="3736080"/>
            <a:ext cx="9144000" cy="27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5AACA6-6E86-4925-8FEA-B803FDD0E2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764640"/>
            <a:ext cx="9144000" cy="56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0" y="6453360"/>
            <a:ext cx="60199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Ф.А. Новиков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ML 8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. Влияние на процесс разработки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416640"/>
            <a:ext cx="259092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77D80-43CE-4AC3-AAEA-B6505333E9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из 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Анализ и проектирование на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UM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овиков Ф.А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асть 8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овышение продуктивности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9144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а счет УЛУЧШЕНИЯ процесса (х%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чальный процесс уменьшает продуктивность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est known practic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чиная с СММ 3 – управляемый процесс = измеримый процесс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а счет ОРГАНИЗАЦИИ команды (3х%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ерархия уменьшает продуктивность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инамическое переназначение ролей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управление по компетентности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5E1E21-FA54-4589-93B0-BB3C2A07C0C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овышение продуктивности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ограммирования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1676160"/>
            <a:ext cx="9144000" cy="45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а счет ТЕХНОЛОГИИ программирования (10х%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окращение количества внеплановых изменений кода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шибки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проектирования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величение объема повторно использованного кода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специфицированные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компоненты в репозитории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8016B4-352E-40E5-8B72-E60D7CD0A3D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Циклы повышения продуктивности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24000" y="752400"/>
            <a:ext cx="8515080" cy="58896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5759280" y="5373720"/>
            <a:ext cx="2702160" cy="1224000"/>
          </a:xfrm>
          <a:prstGeom prst="wedgeRoundRectCallout">
            <a:avLst>
              <a:gd name="adj1" fmla="val 1175"/>
              <a:gd name="adj2" fmla="val -176717"/>
              <a:gd name="adj3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шибки проектирова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39640" y="1160640"/>
            <a:ext cx="2702160" cy="1223640"/>
          </a:xfrm>
          <a:prstGeom prst="wedgeRoundRectCallout">
            <a:avLst>
              <a:gd name="adj1" fmla="val 11689"/>
              <a:gd name="adj2" fmla="val 128597"/>
              <a:gd name="adj3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вторно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спользова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C0B5C9-9538-4B31-A437-90F662312E6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8.3. Влияние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M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0" y="764640"/>
            <a:ext cx="9144000" cy="56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ML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Специфицированные компоненты для повторного использования </a:t>
            </a:r>
            <a:r>
              <a:rPr b="1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скорость повторного использования возрастает </a:t>
            </a:r>
            <a:r>
              <a:rPr b="1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объем увеличивается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ML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Согласованные спецификации для проектирования и реализации </a:t>
            </a:r>
            <a:r>
              <a:rPr b="1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число ошибок проектирования уменьшается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о всех фазах и процессах используется один и тот же язык </a:t>
            </a:r>
            <a:r>
              <a:rPr b="1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затраты на обучение уменьшаются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7653AC-3893-4896-8181-1072BF7A353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Рекомендации по внедрению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M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0" y="1160280"/>
            <a:ext cx="9144000" cy="54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рганизация должна поставить ИЗМЕРИМУЮ цель внедрения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M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нать и применять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ML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олжны ВСЕ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частники процесса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олжен использоваться корпоративный РЕПОЗИТОРИЙ образцов проектирования на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M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нструмент, поддерживающий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ML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,  должен быть ЛЁГКИМ в использовании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44C9AF-C36F-457B-94A4-876E0FF8CD8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ыводы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79280" y="765000"/>
            <a:ext cx="896472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тандарты очень полезны, но не универсальны – требуется подгонка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ет процесса,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илучшего для всех типов организаций и проектов, но для каждой организации и каждого проекта  в отдельности –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есть наилучший процесс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ML –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унифицирует представления артефактов в циклах повышения продуктивности, тем и хорош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6FD977-0241-4CAC-9908-0ECE2CC145C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лан лекций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07640" y="1412640"/>
            <a:ext cx="74199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ведение в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M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бзор языка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оделирование использования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оделирование структуры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оделирование поведения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правление моделями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енденции развития языка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ML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 процесс разработки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F28CDB-44E6-47A6-9674-92B81E49075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8. Влияние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ML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на процесс разработки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91440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8.1. Процесс разработки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8.2. Повышение продуктивности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8.3. Влияние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M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94D9A8-51C7-42B8-963A-41764132758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.1. Процесс разработки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99680" y="981000"/>
            <a:ext cx="8643960" cy="538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одель процесса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рядок проведения типового проекта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 уровне организации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одель команды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= отношения между людьми в процессе разработки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 уровне проекта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исциплина разработки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= технология программирования (в широком смысле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 уровне работника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12B3B6-B4A3-4681-AC0D-B640E0E6475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20240" y="0"/>
            <a:ext cx="81234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Модель процесса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620280"/>
            <a:ext cx="9002880" cy="56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Фаза (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hase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асть процесса работы над проектом. Обычно каждая фаза характеризуется вехой, достижение которой знаменует завершение фазы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еха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milestone)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дномоментное идентифицируемое событие, сопровождающееся появлением и фиксацией некоторого артефакта, который называется результатом вехи 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аботник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(worker)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значение сотруднику набора функций в рамках конкретного проект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ртефакт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(artifact)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окумент или иной материал, имеющий материальную форму и отчуждаемый от разработчик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имер: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ilestone oriented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r-driven incremental software development proces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A030F3-B11C-4727-9D33-0E88FF5A021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тандартные процессы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86920" y="1218960"/>
            <a:ext cx="86281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тандарты: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O 9000 (2000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MM (CMMI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ICE (ISO 15504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одели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P = Rational Unified Proces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SF = Microsoft Solutions Framework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C056D8-2840-40E1-A1FD-35D44914691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Типичный рецепт процесса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980640"/>
            <a:ext cx="9144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зять дюжину свежих программистов среднего размера и хорошего качества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щательно очистить, удаляя шелуху университетского образования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ассировать при средней температуре в течение месяца испытательного срока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местить в толстостенный сосуд выбранной системы программирования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обавить менеджмента и теории по вкусу 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арить в собственном соку при плотно закрытой крышке до готовности программного продукта, периодически выпуская релизы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48849E-796D-4853-A9E6-59689CC0953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8.2. Повышение продуктивности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1088640"/>
            <a:ext cx="9144000" cy="53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ограммы ненадежны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ограммисты неуправляемы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ограммирование рискованно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одуктивность – производительность востребованного труда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Е линейная зависимость продуктивности от различных факторов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CD15BA-9210-4617-B708-596216FD83A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одуктивность и люди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1258920" y="1808280"/>
          <a:ext cx="6588000" cy="413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1808280"/>
                    <a:ext cx="6588000" cy="413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25D40B-396B-49ED-8C1D-DB7C2BA410B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1T11:30:01Z</dcterms:created>
  <dc:creator>Novikov</dc:creator>
  <dc:description/>
  <dc:language>en-US</dc:language>
  <cp:lastModifiedBy>Fedor Novikov</cp:lastModifiedBy>
  <dcterms:modified xsi:type="dcterms:W3CDTF">2006-03-30T15:53:57Z</dcterms:modified>
  <cp:revision>24</cp:revision>
  <dc:subject/>
  <dc:title>OO Analysis &amp; Design with UML (advanced)</dc:title>
</cp:coreProperties>
</file>