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946E-AC85-44CC-933B-688EF6B1A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701160"/>
            <a:ext cx="91440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72B6D-5094-43D1-90AD-7EECB5AE2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701160"/>
            <a:ext cx="44622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701160"/>
            <a:ext cx="44622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FAA7-6D2B-4873-975E-81BE1DAE9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29440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91920"/>
            <a:ext cx="29440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91920"/>
            <a:ext cx="29440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701160"/>
            <a:ext cx="29440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701160"/>
            <a:ext cx="29440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701160"/>
            <a:ext cx="29440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0837D-FC16-4974-A830-3611A1C1F2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87C4C-1DC6-4941-BDD9-BB3B9647EE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DE633-E0FC-4F6F-ADC8-3C0B0E321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728EA-4ED9-4382-863B-0DC14462C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48739-C8DB-4154-B9E0-E00C20337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54E2-8D5F-4C6D-BD76-B7968A588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701160"/>
            <a:ext cx="44622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BCEB-F626-423F-9737-C1AB03D03F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701160"/>
            <a:ext cx="44622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92461-63C2-400F-8E70-A7FFF851F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5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4622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91920"/>
            <a:ext cx="44622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701160"/>
            <a:ext cx="91440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114F2-AB2F-4732-A5B4-2F48AA3BE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91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416640"/>
            <a:ext cx="60199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.А. Новиков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4. Моделирование структур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590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E5AA-B4C9-4739-8D15-71D355FD4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83808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лиз и проектирование н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U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5238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иков Ф.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щие свойств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ификатор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1280" y="1160280"/>
            <a:ext cx="831708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имо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visibi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только у классификатор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сть действия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p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только у классификатор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ие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izatio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лько для классификатор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ледование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heritanc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тно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multiplic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только у классификатор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583B2-1C6C-41F1-9497-86F7E71A29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имост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дим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может ли свойство одного классификатора использоваться в другом классификато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крытый (+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щенны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#) protec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рыты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-) priv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71EB-17E6-43B1-A8E0-8EA63B509F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ласть действ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56760" y="1142640"/>
            <a:ext cx="8558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ласть действ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как проявляет себя свойство классификатора в экземплярах, т.е. имеют экземпляры индивидуальные значения свойства или совместно используют одн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земпляр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умолчани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то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lassifier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подчеркивается (аналогичн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789A0-048F-48EA-B44E-0E2AAF761B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следован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бстрактн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не могущий иметь непосредственных экземпляр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аследники могут иметь экземпля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стовой – не могущий иметь потомков (свойств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leaf}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имер, в листовом классе не может быть абстрактных операц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невой – не могущий иметь родителей (свойств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root}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ется, если есть несколько независимых иерархий наследов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ожественное наследование поощряетс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фликты наследования – проблема архитектор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не язы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6D699-78E3-45F0-8955-83D26F43F8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атност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тнос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ultiplicity)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аничение (обычно сверху) на количество экземпляр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перевода – множествен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тность м.б. у классификаторов, атрибутов и полюсов ассоциаци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 экземпляров – служебный класс, служб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utility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вно один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ton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иночк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ксированное число экземпляр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имер, порты в концентрато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извольное число экземпляров – по умолчани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тный атрибут = масси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FC463-CCA3-4A2C-B523-99D54AC49C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модель классификатор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1274760"/>
            <a:ext cx="9146880" cy="4308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77080" y="4292640"/>
            <a:ext cx="100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54C4A-98DB-49F7-8216-CA8D0D815C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3. Элементы диаграмм класс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0400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ности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clas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й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nterfa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 данных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Пакет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(packag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Примечание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(not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я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циация (в т.ч. агрегирование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бщен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generaliza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висимо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dependenc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изац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mplement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7A9B5-BEA8-4CEA-91F2-2292892605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ы в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944280"/>
            <a:ext cx="8501040" cy="56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дел имен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тереотип» ИМ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ратнос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я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stra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дел атрибу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имость ИМЯ кратность :тип =начальное_значен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дел операц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имость ИМЯ (параметры) :ти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ые разделы (или примечание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832D4-975D-4CC8-9E0C-A52DC4AE29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тац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43280" y="692280"/>
            <a:ext cx="6467400" cy="53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9BFA8-9A90-41B5-8E6A-03059C3E17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андартные стереотипы классо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1.х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304640"/>
            <a:ext cx="9144000" cy="51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clas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земпляры являются класса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typ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акласс, экземплярами являются все наследник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ного класс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eotyp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реотип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t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 экземпляров = служб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 атрибутов и все операции абстрактны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typ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данны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числимый тип данны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Clas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я класс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o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ующее лиц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земплярами являются сообщ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гнал, распространяемый по иерархии обобщен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ивные класс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225D6-CD60-4876-8A92-A497D24231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лекц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07640" y="1088640"/>
            <a:ext cx="7419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зор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моделя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нденции развития язык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процесс разработ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33C0-C20D-41EE-B1EC-ED08572046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трибут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320" y="837720"/>
            <a:ext cx="8343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имость ИМЯ кратность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ьное_значен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имость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 #  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, integer, …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итивы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числен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false, true}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имя типа или класс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черкивание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+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тност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0..2], [1..*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changeable}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по умолчани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addOnly}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добавление значений в масси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frozen}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 создания нельзя меня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1ADA2-B327-4629-8007-1FEBD7DB99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ы атрибут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n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name : St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name [1..3] : St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name : String = “Novikov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name : String {frozen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47998-9AB1-4A8C-8377-3E18BFCCD1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имость ИМЯ (параметры) :ти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е передачи ПАРАМЕТР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 = знач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я передачи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,  out,  inou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черкивание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+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а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isQuery}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 без побочных эффекто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sequential}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один по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guarded}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в каждый момент од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concurrent}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омарност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ирование с помощью стереотип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ADC9A-9302-4508-8914-DCB93FC03C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ы операц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691920"/>
            <a:ext cx="85345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move(in from, in to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move(from : Dpt, to : Dp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getName() : String {isQuery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setPwd(in pwd : String = “password”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EE190-0666-4AF1-BA1D-E9037B7BC5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ые раздел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7160" y="1371600"/>
            <a:ext cx="7981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Примечание к класс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чания к операциям: предусловия и постуслов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формальные, но полезные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C – Class Responsibility C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ые раздел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erty get-set fun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EDF9C-AD4D-4F2D-865B-1888CF209B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ИС О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6360" y="549360"/>
            <a:ext cx="7740720" cy="58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E86FA-0F73-416C-B754-1266ABE256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дентификация класс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7280" y="1052280"/>
            <a:ext cx="861048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арь предметной област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а существительные в Т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лизация вариантов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ы на диаграммах взаимодейств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ы в состоянии на диаграммах деятель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цы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tern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ир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ец – параметризованна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о классам) коопераци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90785-3B15-425B-AEAC-42DC974C83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оварь предметной област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4240" y="1295280"/>
            <a:ext cx="8429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ем, перевод и увольнение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сотрудник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дание и ликвидация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подразделен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r>
              <a:rPr b="1" lang="ru-RU" sz="4000" spc="-1" strike="noStrike">
                <a:solidFill>
                  <a:srgbClr val="ccccff"/>
                </a:solidFill>
                <a:latin typeface="Arial"/>
              </a:rPr>
              <a:t>ваканс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сокращение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должносте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01A5D-A42C-45A6-A86E-32E3DE40E7A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ализация вариантов использ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лизац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rePerson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ой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Hire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лизац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лизац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Depart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10CCA-6851-40E4-9980-ACEB8492AEA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нение образц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314000"/>
            <a:ext cx="86770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е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-Model Separ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Model- View-Controller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ривиальные соображения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логовое окно не должно прямо манипулировать данны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, ответственный за хранение и обработку данных не должен содержать интерфейсных элемент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reFor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DF211-F0E4-4BBA-8EAB-0E42F103681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 Моделирование структур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72640"/>
            <a:ext cx="9144000" cy="59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1. ОО статическое моделирова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2. Классификато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3. Элементы диаграмм класс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4. Идентификация класс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5. Отношения на диаграммах класс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6. Интерфейсы, типы данных и рол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7. Внутренняя структура объектов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7. Диаграммы компонен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8. Диаграммы размещ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2DC10-3A46-4B14-ABAD-E7B53FF9C4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2960" y="1393560"/>
            <a:ext cx="80438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исимости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 и стереотипн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ие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ключая множественное наследова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социация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ключая агрегацию и композици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лизация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 реализует интерфейс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8AAC0-E404-4B5B-B542-1F5F52F65F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ереотипные зависимости на диаграмме классов 1.х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тавляет параметры в шабло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derive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производный элемен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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riend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имеет специальные права видимости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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instanceOf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является экземпляром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instantiate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создает экземпляры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powertype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множество потомков 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refine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уточняет / конкретизиру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 реализу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use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использу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 зависимость без стереотип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7A4F-3CC8-443B-B216-EC4BB440FB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изводные элемент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8091" t="7022" r="26593" b="62706"/>
          <a:stretch/>
        </p:blipFill>
        <p:spPr>
          <a:xfrm>
            <a:off x="503280" y="1197000"/>
            <a:ext cx="8137440" cy="334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3280" y="360828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роизводная ассоци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05AAB-221E-4782-B6D0-B9FC2C9759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елка с треугольником от подкласса к суперкласс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иночное и множественное обобщение: т.е. наследование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е иерархия, а решет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реотип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рытое наследование С+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раничения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complete}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ерархия завершен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incomplete}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ерархия не завершен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F0007-F4BB-49C2-817E-DB31A01530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жества обобщений и подтип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26151" t="8764" r="3962" b="50622"/>
          <a:stretch/>
        </p:blipFill>
        <p:spPr>
          <a:xfrm>
            <a:off x="539640" y="1376280"/>
            <a:ext cx="8204400" cy="422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640" y="98100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ножество подтип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7280" y="551664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ножество обобщ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11640" y="548172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ножество обобщ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AD816-8EC0-48BE-8577-21AECD8F7D6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ецификация экземпляра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3009" t="10824" r="17635" b="54665"/>
          <a:stretch/>
        </p:blipFill>
        <p:spPr>
          <a:xfrm>
            <a:off x="287280" y="1881360"/>
            <a:ext cx="8640720" cy="3816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16000" y="332100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пецификация экземпля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11640" y="105264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оздает экземпля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DB7AE-29D7-4F69-9D33-ED906D0CED5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 ассоциации (возможно, вместе с направлением чтения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тность полюса  ассоциации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 агрегации полюса ассоциации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-4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ль полюса ассоциации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ие навигации полюса ассоциации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имость полюса ассоциации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орядоченность объектов на полюсе ассоциации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яемость множества объектов на полюсе ассоциации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лификатор полюса ассоциации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 ассоциации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полюсные ассоциации </a:t>
            </a:r>
            <a:r>
              <a:rPr b="1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D4082-4F6B-40B8-B83C-5EB9613CDA0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мя ассоци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691920"/>
            <a:ext cx="80010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ычно ес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 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юс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но указать направление чт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8080200" cy="261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A9B8E-1B8D-408A-AF39-D019BAF6910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атность полюса ассоци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69192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экземпляров объектов может быть на данном полюсе связ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* - неопределенное числ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7620120" cy="337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543A8-4F6A-4855-8B49-8702983E4C5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грегация и композиц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грегац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шение Часть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о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изменяет направления навигации и не накладывает ограничений на время жизн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озиц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квально «состоит из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ь принадлежит только одному целом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емя жизни частей совпадает с временем жизни целог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траивание и ссылка на объек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2B561-C7A7-4CEA-84BE-281660CB5F8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1. ОО статическое моделиров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6000" y="1088640"/>
            <a:ext cx="76690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скрипторы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ступление про ОО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структуры: Какой? Чего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6A91-7459-4CBA-87D8-1F42F2FCF1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ы композиции и агрег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920" y="1030320"/>
            <a:ext cx="853416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B9E31-CC6D-4506-9770-9555BD6BC2F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ы ассоциац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584280"/>
            <a:ext cx="7229520" cy="589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EC198-1FC4-47E2-85FB-246E10989D0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ль полюса ассоци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728280"/>
            <a:ext cx="7353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имость ИМЯ : тип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944640"/>
            <a:ext cx="8534520" cy="536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D6A41-B5B4-499D-B7BD-CE3E9554083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правление навиг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14400" y="1506600"/>
            <a:ext cx="7315200" cy="384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1B022-2572-4DB2-8473-13F3F23272C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имость полюса ассоциации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чужих – связанные ассоциацией всегда видят друг друг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3280" y="1844640"/>
            <a:ext cx="8381880" cy="43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4C09B-F1F5-4BF8-AE1B-D1B28DA20C6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порядоченность и изменяемость множества объектов на полюсе связ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3520" y="3125880"/>
            <a:ext cx="8610480" cy="161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FBAC4-52A9-4DCC-8897-C77D64A62FC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валификатор полюса ассоци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5373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валификатор – это атрибут ассоциа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222640"/>
            <a:ext cx="9144000" cy="29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2E3E5-838F-4924-91BA-13892B327F2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 ассоци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0840" y="1676520"/>
            <a:ext cx="9147240" cy="489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269A0-E3D5-458F-92AA-2E4AE373042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полюсные ассоци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692280"/>
            <a:ext cx="8229600" cy="581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AACC-7577-4033-8656-2D85A29A0A6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3526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амодель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839440" cy="652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61E2E-C5ED-466C-B909-89BF7279D69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скриптор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00280"/>
            <a:ext cx="9144000" cy="53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статична и существенно конечна, выполнение динамично и практически бесконечно – структур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ег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писывает модель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скрипто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конечное описа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intent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сконечного множе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exten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терал – самоопределенное значени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ти все элементы модели (классы, варианты использования, узлы, ассоциации …) суть дескрипто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чания – литерал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21E40-E870-4D75-BED1-3683675793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6. Интерфейсы, типы данных и рол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44280"/>
            <a:ext cx="91440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фейс = именованный набор абстрактных операц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лизует Интерфей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 использует Интерфей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 может реализовывать много интерфейсов (и наоборот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ол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интерфейс, который предоставляет класс в данной ассоциа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токо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автомат, описывающий допустимый порядок вызовов (2.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1F8D2-7AA1-45CC-9B25-4B724DA80E9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тация реализации и использования интерфейсов (1.х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229600" cy="525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13EF4-414D-4E01-A98B-5DA573A605F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тация «чупа-чупс» (2.0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13304" t="1807" r="19941" b="55860"/>
          <a:stretch/>
        </p:blipFill>
        <p:spPr>
          <a:xfrm>
            <a:off x="395280" y="1089000"/>
            <a:ext cx="8317080" cy="4681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348000" y="4581360"/>
            <a:ext cx="39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редоставляемый и требуемый интерфей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5EB98-4E0E-44E2-ACF5-C387C4D8CFB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данных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01592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 (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ти = интерфей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 – класс со стереотипом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typ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земпляры (значения) типа не обладают индивидуальностью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t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итивные типы (и типовые выражения) из целевого языка программир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ла и строки есть всег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исляемые типы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umeratio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983D6-98F8-4BA9-AB78-2749B5282F7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1600" y="-360"/>
            <a:ext cx="8312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: трехзначная логик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35200" y="1641600"/>
            <a:ext cx="7470720" cy="357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D3A1C-B85F-47DB-9F60-C5FA7B10AAF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аблон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50564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блон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at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 с параметра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метром может быть вс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МЕТ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ти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вное связывание – зависимость со стереотипом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явное связывание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_шабло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гумент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B1017-0288-4E59-A092-A87F8F61B50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: параметризованный класс (шаблон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1438200"/>
            <a:ext cx="8839080" cy="538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EAAA6-2276-404A-86D5-E0371888D8E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7. Внутренняя структура объект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жнейшее нововвед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ированный классификатор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d classifi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состоит из частей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, порто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ort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оединителей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o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и м.б. структурированными классификаторам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екомпозиция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– структурная составляющая классификатор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имеет имя, тип и крат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т – индивидуальная точка взаимодействия экземпляра классификатора и внешней сред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единитель – «контекстная» ассоциация между портами и частями, действующая только внутри классификатор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только СТРУКТУРА, но и ПОВЕДЕНИЕ (кооперация частей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6C4C5-858C-4709-B8AE-AF045C5899B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 ИС ОК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1162" r="37576" b="56517"/>
          <a:stretch/>
        </p:blipFill>
        <p:spPr>
          <a:xfrm>
            <a:off x="647640" y="1197000"/>
            <a:ext cx="7777080" cy="4680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56000" y="5624640"/>
            <a:ext cx="40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редоставляемый и требуемый интерфей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4000" y="360828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Именованный 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4720" y="3500280"/>
            <a:ext cx="14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оеди- ни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08000" y="339264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D461A-20B8-447D-BC57-ECC86D494D6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8. Диаграммы компонент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7280" y="83664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нач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числение и взаимосвязи артефактов систе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ност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фейс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исимос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E1F57-BB59-44A0-ACAC-94270B3F58F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О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– инкапсулирует данные и операции для работы с ни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 – описание однотипных объект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= экземпляр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nc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класс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ледован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nheritance)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 структуризации описаний класс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иморфиз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polymorphism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глашение о способе идентификации операций (по сигнатуре, а не по имени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объект является непосредственным экземпляром одного класса и косвенным экземпляром всех суперклассов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BAFD3-4E44-491D-8144-FC316C7256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тация 1.х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1508040"/>
            <a:ext cx="8229600" cy="384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77383-2B94-4BB3-8A5C-8B6EF214B8B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тация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11850" t="12231" r="35845" b="67905"/>
          <a:stretch/>
        </p:blipFill>
        <p:spPr>
          <a:xfrm>
            <a:off x="212760" y="1479600"/>
            <a:ext cx="8680320" cy="2927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16000" y="332100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Компонент, предоставляющий интерфей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96000" y="332100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Компонент, использующий интерфей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162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Интерфей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A93F-D676-47C2-A8DB-8137FC1A4CD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нутренняя структура компонент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5069" r="31499" b="54567"/>
          <a:stretch/>
        </p:blipFill>
        <p:spPr>
          <a:xfrm>
            <a:off x="324000" y="1521000"/>
            <a:ext cx="8534160" cy="4464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440000" y="11253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Компонент с внутренней структу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58920" y="36813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35640" y="227664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Делегирующий соедини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4437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Внутренний интерфей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63961-F902-4481-9F78-A551318785B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ереотипы компонентов 1.х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286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rar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umen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cutabl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7960" y="1523520"/>
            <a:ext cx="4190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блиотека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L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а (БД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йл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h, .cp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кумент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умолчани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BED9F-B24A-4F39-B3E6-B4D665870EF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ичные примен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литное приложение – диаграмма компонентов не нуж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конфигурацие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версия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унаследованных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з данны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систем динамической архите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19B05-0503-4403-9171-9C7D6C7029E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ы размещ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5336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нач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топологии развернутой систе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Уз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исимос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AFAC2-4154-40E3-B716-63CDF5BF8BA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тация 1.х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55640" y="1089000"/>
            <a:ext cx="7772400" cy="478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C48AD-D11E-40C7-B8FD-E880E6F236A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ИС ОК: тонкий клиент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920" y="1562040"/>
            <a:ext cx="8534160" cy="37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8832-5825-4549-9689-F7D21EE58D1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 ИС ОК: тонкий клиент (2.0)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CE580-0288-4D09-8A70-A2A0BF296C0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сложной системы описывается на уровне дескриптор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ы классов моделируют структуру объектов и связей между ни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а объектов = экземпляр диаграммы класс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ы компонентов моделируют структуру компонентов (артефактов) и взаимосвязей между ни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ы размещения моделируют структуру вычислительных ресурсов и размещение компонен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76ED7-33D5-4C4E-9608-43442CD3B62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структуры: Какой? Чего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связей объектов во время выпол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социации на диаграмме классо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сложных объектов, состоящих из взаимодействующих част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а внутренней структуры классификатор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хранения данн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полнения ассоциац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программного к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бщ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артефактов в проект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ы компонен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компонентов в приложен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фейсы и классы на диаграмме компонен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используемых вычислительных ресур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ы размещ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42F60-4769-4286-A258-6590CAF7BC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вет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арь предметной области – основа для выбора класс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ывать структуру удобнее параллельно с описанием поведени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обязательно включать в модель все классы сраз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обязательно определять все свойства класса сраз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обязательно показывать на диаграмме все свойства класс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обязательно определять все отноше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 классами сраз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1F5EA-B803-453E-8AB2-1938C56F544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.2. Классификатор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лассификато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ifie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– сущность, имеющая экземпля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ификатор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йс = множество абстрактных операц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 данных: примитивы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гна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igna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нен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ompon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е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n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использов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se case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истем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ubsyst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классификаторы – пакет, обобщ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я ассоциация имеет экземпля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F6BB-4A64-4215-BACC-FF008079AE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лассификаторы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ML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657360"/>
            <a:ext cx="44146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la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ефак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rtifac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й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nterfa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итивный тип данны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data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чис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enumer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гна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igna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нен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ompon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е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n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использов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se case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ующее лиц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ct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пера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ooper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л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ro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19640" y="3321000"/>
            <a:ext cx="1017360" cy="63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96000" y="335772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64000" y="2313000"/>
            <a:ext cx="936720" cy="539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551640" y="1089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7848720" y="1305000"/>
            <a:ext cx="269640" cy="269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248000" y="1808280"/>
            <a:ext cx="809640" cy="53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4824360" y="836640"/>
            <a:ext cx="990720" cy="63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500720" y="4545000"/>
            <a:ext cx="539640" cy="890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5543640" y="468936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7308720" y="4221000"/>
            <a:ext cx="990720" cy="297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3780000" y="51264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>
            <a:off x="6551640" y="5445000"/>
            <a:ext cx="1133280" cy="36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8101080" y="5661000"/>
            <a:ext cx="576360" cy="539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6877080" y="2744640"/>
            <a:ext cx="80964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     UML 4. Моделирование структур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D2CE8-8869-409D-99D3-96E4A90A00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9T09:46:45Z</dcterms:created>
  <dc:creator>Fedor A. Novikov</dc:creator>
  <dc:description/>
  <dc:language>en-US</dc:language>
  <cp:lastModifiedBy>Fedor Novikov</cp:lastModifiedBy>
  <dcterms:modified xsi:type="dcterms:W3CDTF">2006-03-19T22:54:43Z</dcterms:modified>
  <cp:revision>73</cp:revision>
  <dc:subject/>
  <dc:title>OO Analysis &amp; Design with UML (elementary)</dc:title>
</cp:coreProperties>
</file>