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5447-6715-4F45-A0A2-00520D2C9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73284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31DDE-B5C0-48AA-850F-C0A078BF5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3E99-C0FC-4F7B-9907-D1E5BA709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83628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732840"/>
            <a:ext cx="294408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1576-2075-4A98-8C9F-E82A6812D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5DF0-9623-4BE3-910A-9DF52E7F9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467D-DCCE-4D4A-9AA9-1357AC096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25B8-6373-4C8D-B1F7-9FAC55F7B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F6A3-A697-4103-8599-286F82E99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E0BC-175C-41B8-90FF-596884319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7BD7-6955-4B05-8F4C-D92112F12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73284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A345-D424-4C55-BA6B-E8D3BC91A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836280"/>
            <a:ext cx="44622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73284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0DF8-61B1-45AA-9D61-3F17E3989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6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591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7F28-D67D-4E9F-A7AF-C239878D6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2000" y="2097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гматик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простые идеи и но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яется на ВСЕХ фазах (анализ, …, тестирова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ют ВСЕ (разработчики, заказчики, управленцы) одинако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висит от остальных средст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меняется 1.1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использоваться отдельно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2661-2C2C-463C-AE93-CFEF5FE549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чем это нужно – вывод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диционные подходы достаточн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ный архитектор может с успехом использовать любой подх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ирование использования позволяет неопытному архитектору совершать меньше грубых ошибок на ранних этапах проект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C16A-4257-4C8C-8A5B-C537D2BF4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2. Диаграммы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159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и нот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ующие л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рианты использования 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ношения элементов диаграмм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5BFF-3603-4E61-ABF0-62E96FE7F6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диаграмм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ющие лиц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нт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ч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Паке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и между действующими лицами и вариантами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я между действующими лиц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я и зависимости между вариантами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05BF-D898-4292-9888-2FD5256D5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312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(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0760" y="1241280"/>
            <a:ext cx="5467320" cy="5073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86760" y="358920"/>
            <a:ext cx="1643040" cy="891000"/>
          </a:xfrm>
          <a:prstGeom prst="wedgeRoundRectCallout">
            <a:avLst>
              <a:gd name="adj1" fmla="val -17842"/>
              <a:gd name="adj2" fmla="val 123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ицы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8800" y="728640"/>
            <a:ext cx="2928960" cy="496440"/>
          </a:xfrm>
          <a:prstGeom prst="wedgeRoundRectCallout">
            <a:avLst>
              <a:gd name="adj1" fmla="val 11398"/>
              <a:gd name="adj2" fmla="val 24521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е лиц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29240" y="3143160"/>
            <a:ext cx="2500560" cy="891000"/>
          </a:xfrm>
          <a:prstGeom prst="wedgeRoundRectCallout">
            <a:avLst>
              <a:gd name="adj1" fmla="val -47972"/>
              <a:gd name="adj2" fmla="val -9078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иант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4880" y="5229360"/>
            <a:ext cx="2500200" cy="496440"/>
          </a:xfrm>
          <a:prstGeom prst="wedgeRoundRectCallout">
            <a:avLst>
              <a:gd name="adj1" fmla="val -44231"/>
              <a:gd name="adj2" fmla="val -1128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ци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86120" y="3414600"/>
            <a:ext cx="2500560" cy="891000"/>
          </a:xfrm>
          <a:prstGeom prst="wedgeRoundRectCallout">
            <a:avLst>
              <a:gd name="adj1" fmla="val -34268"/>
              <a:gd name="adj2" fmla="val 8650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ассоц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4200" y="4343400"/>
            <a:ext cx="2286000" cy="1286280"/>
          </a:xfrm>
          <a:prstGeom prst="wedgeRoundRectCallout">
            <a:avLst>
              <a:gd name="adj1" fmla="val 55476"/>
              <a:gd name="adj2" fmla="val 642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действующего 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00D7-5A66-48DE-A282-28F3A8B747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8068" t="5102" r="0" b="39952"/>
          <a:stretch/>
        </p:blipFill>
        <p:spPr>
          <a:xfrm>
            <a:off x="0" y="116064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1484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бобщение действующих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79640" y="162864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ариант использования с точкой расши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170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Условие расши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AF4F-DB9E-4012-84F3-9A53B9CB7D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йствующие л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их идентифик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464840"/>
            <a:ext cx="8483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ие лица находятся ВНЕ проектируемой сист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ее лицо – это множество логически взаимосвязанных РО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ющее лицо – это стереотипный КЛАС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овые случаи: категории пользователей, внешние программные и аппаратные средств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B631-E1AE-402D-8B7A-07496AD048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85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: действующие лица ИС О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455480"/>
            <a:ext cx="731520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джер персона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ет с конкретными людь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еджер штатного рас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ет с абстрактными должностями и подразделени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D2A7-4FCC-401E-9554-A79BD128A5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ианты использования и их идентифик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3120" y="1746360"/>
            <a:ext cx="8840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риант использ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жество возможных последовательностей событий/действий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приводящих к значимому для действующего лица результа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ичные случаи: пункты Т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З смутное, его можно (и нужно!) попробовать переписать фразами субъект – предикат – объек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14CA-51F5-45ED-91DB-8832A61D4B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варианты использования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9360"/>
            <a:ext cx="91440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енеджер персонала выполняет действ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ольнение сотрудн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енеджер штатного расписания выполняет дейст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квидация подразде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вакансии (=должност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ение долж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108E-F4CF-4723-9DE5-EA694F2EA6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1209240"/>
            <a:ext cx="813744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45D2-AE6F-46D1-B98C-A17E47C87B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: варианты использования ИС О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1434960"/>
            <a:ext cx="9147240" cy="398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27BD-23C5-4B7A-B14B-E63E20378E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360" y="0"/>
            <a:ext cx="8396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ч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8640" y="836280"/>
            <a:ext cx="838224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З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– функциональные и НЕ функциональные треб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ировка требований (по приоритетам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2400" y="4137120"/>
            <a:ext cx="6556320" cy="19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195E-32FB-4FE4-AB50-9D8E80CC3B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 элементов диаграмм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46360"/>
            <a:ext cx="815184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 между действующим лицом и вариантом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между действующими лиц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 между вариантами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между вариантами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Зависимость между пакета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3830-A234-4976-9227-656B2B0519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ссоциации между действующими лицами и вариантами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5383-B977-49FD-BED1-2F42F2EA3E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 (1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3640" y="1125360"/>
            <a:ext cx="731340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BAA9-0C40-43F2-978F-B4D5E2D84E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 (2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14480"/>
            <a:ext cx="914400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F776-FDF6-4E98-A138-1EC3DA189E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бщение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343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0052-14FE-44EF-B1D4-6828D5AEB9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исимости межд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риантами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7528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FBEF-2443-42E1-9CB6-74E9CEEAE4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3. Реализация вариантов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от анализа и постановки задачи к решению (проектированию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овые сценарии и исключен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овые описани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stor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взаимодействия (последовательности и коммуникации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53B4-AD57-4700-80CD-C34F2E82A8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6320" y="0"/>
            <a:ext cx="84376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стовые опис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88640"/>
            <a:ext cx="91440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вольнение по собственному желан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трудник пишет заяв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ик подписывает заяв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есть неиспользованный отпус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бухгалтерия рассчитывает компенсаци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хгалтерия рассчитывает выходное пособ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ный администратор удаляет учетную запис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еджер штатного расписания обновляет базу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E3DD-0EFE-4779-BE2F-A8AAABB16D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Моделирование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762200"/>
            <a:ext cx="91440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1. Значение моделиров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2. Диаграммы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3. Реализация варианто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EE56-D69B-4FCB-994C-B3D17DFEA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520" y="0"/>
            <a:ext cx="7980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12440"/>
            <a:ext cx="4191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elfF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заяв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eci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читать сотрудн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nclud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Delete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ить информацию в баз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0" y="1612440"/>
            <a:ext cx="45720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F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прика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pecia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читать сотрудн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clude DeleteAcco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ить информацию в баз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CFE5-6293-440A-BBBD-A718C76422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 диаграммами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549360"/>
            <a:ext cx="8534520" cy="61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A91A-BA19-4165-A713-1BFBB9BD07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 rot="16200000">
            <a:off x="-2742840" y="27432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овершенствова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реализ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81400" y="0"/>
            <a:ext cx="5497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C00B-57EA-4167-B74C-130F73F60D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диаграммам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едовательности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301760"/>
            <a:ext cx="7925040" cy="55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8A36-B39C-460A-A087-7926C73A08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изация диаграммами   коммуник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308240"/>
            <a:ext cx="8076960" cy="55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F073-A3E0-468D-BEDC-9D5330D885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ение способов реализации вариантов использования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овые о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 понятно, привычно и удоб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но и неточно, пропуски и ошиб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трансляторы в варианты использования (!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ы на псевдокод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ое средство программис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ктнее текстового опис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язывают структуру реал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иближает к объектной модел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6AE4-A7F2-452B-AF28-3C5C160B52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авнение способов реализации вариантов использования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деятель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д эквивалентен блок-схема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 точностью до параллелизм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лядно, но менее компактн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не приближают к объектной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взаимодейств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ая и непривычная нотац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объектного уровня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ывают ОДИН сценарий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жно МНОГО диагра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 ведут к объектной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15D9-8F4B-4DA5-83DC-0B4BACCEB5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использовани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шаг 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назначение – показать, что делает система во внешнем ми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язательно соответствует структуре классов, модулей и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ая идентификация действующих лиц и вариантов использовани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юч к успех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 реализации – дело вку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0F6C-8C67-4F39-BED3-E9DA1B76BA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1. Значение 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3125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чем это нужн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ы к проектировани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моделирования использова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2BDA-ACDB-45A6-B81C-991ADE78F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чем это нужно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блок сх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состоя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конечные автом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класс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код в рамочк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ац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диаграммы «сущность – связь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размещ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топология се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ак дале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использо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. . . 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F537-F8C1-4AE8-BD1A-A72FD1A80E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З: Отдел кадр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9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 «Отдел кадров» предназначена для ввода, хранения и обработки информации о сотрудниках и движении кадр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ем, перевод и увольнение сотрудн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и ликвидация подраздел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вакансий и сокращение должност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F6D0-FAA7-479F-90C0-81E632A3A0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ходы к проектировани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3120" y="1464840"/>
            <a:ext cx="81122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op-down: система – подсистемы – модули …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соответствует команде, а не задач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Д: схема = таблицы + связ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ельный номер – атрибут сотрудн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OO: словарь системы = класс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та и адекватность словаря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73B4-8140-40B9-99A8-905FE35F9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достатки традиционных подход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шаг выполняется в терминах проектируемой сист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лько одна структура выбирается за основу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ое проектирование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к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данных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хра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но-ориентированный подход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межмодульных интерфей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2182-5A84-4DC6-B020-E342DB03D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имущества моделирования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1371600"/>
            <a:ext cx="81914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ые утверж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ъекты, предикаты (и объе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трагирование от реализац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ет система (но не КАК это делается и не ЗАЧЕМ это делать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ларативно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не императивное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грани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не черный ящи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Ф.А. Новиков                UML 3. Моделирование использования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3609-6BC8-4AE2-A4BF-32FF4B4E7C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12T17:57:42Z</dcterms:modified>
  <cp:revision>47</cp:revision>
  <dc:subject/>
  <dc:title>OO Analysis &amp; Design with UML (elementary)</dc:title>
</cp:coreProperties>
</file>