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1BB20-5863-4E34-A351-B2ABFF62FD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873000"/>
            <a:ext cx="9144000" cy="26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750840"/>
            <a:ext cx="9144000" cy="26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28518-230C-42EF-AA6B-7BD4B62E6F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873000"/>
            <a:ext cx="4462200" cy="26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873000"/>
            <a:ext cx="4462200" cy="26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750840"/>
            <a:ext cx="4462200" cy="26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750840"/>
            <a:ext cx="4462200" cy="26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D7B5B-8F71-45ED-BAC4-A65E96F006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873000"/>
            <a:ext cx="2944080" cy="26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873000"/>
            <a:ext cx="2944080" cy="26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873000"/>
            <a:ext cx="2944080" cy="26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750840"/>
            <a:ext cx="2944080" cy="26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750840"/>
            <a:ext cx="2944080" cy="26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750840"/>
            <a:ext cx="2944080" cy="26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12865-45D4-4747-83BA-CD00F1D08A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873000"/>
            <a:ext cx="9144000" cy="55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B6BFA-EBE7-4BB6-A56F-FAEAAA3882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73000"/>
            <a:ext cx="9144000" cy="55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B184A-6924-4780-8322-4F6E62BB52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873000"/>
            <a:ext cx="4462200" cy="55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873000"/>
            <a:ext cx="4462200" cy="55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11DA2-3658-430B-AB18-71E6400852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CB029-7CA1-40BE-8A98-BF45A11128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0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F6E49-5724-40D8-A8DE-C067043FCA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873000"/>
            <a:ext cx="4462200" cy="26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873000"/>
            <a:ext cx="4462200" cy="55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750840"/>
            <a:ext cx="4462200" cy="26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B7A6C-B95E-4FC2-B9E6-F7909607C7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873000"/>
            <a:ext cx="4462200" cy="55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873000"/>
            <a:ext cx="4462200" cy="26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750840"/>
            <a:ext cx="4462200" cy="26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54B5F-8AC1-4D9A-B3A6-782988FB11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873000"/>
            <a:ext cx="4462200" cy="26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873000"/>
            <a:ext cx="4462200" cy="26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750840"/>
            <a:ext cx="9144000" cy="26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FA302-4E89-4D97-B6EC-4B91E8018B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73000"/>
            <a:ext cx="9144000" cy="55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16720" y="6381360"/>
            <a:ext cx="2627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96FD-7DBF-405B-9996-0A513B4E8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из 2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381360"/>
            <a:ext cx="648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.А. Новико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L 6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Управление моделям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нализ и проектирование н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UM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виков Ф.А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аст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сширение пространства име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468936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видит классы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но не видит класс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видит классы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но не видит класс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видит класс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но не видит классы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видит классы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но не видит класс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333440" y="838080"/>
            <a:ext cx="5902560" cy="3845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.А. Новиков UML 6. Управление моделями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5B15E-B036-45A4-A436-DCBC676BCE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отация импорт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76360" y="1015920"/>
            <a:ext cx="7927920" cy="4962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.А. Новиков UML 6. Управление моделям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44AD6-38B8-4FCF-BA2B-A3DB4FC3EB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ндуцированные зависимост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873000"/>
            <a:ext cx="9144000" cy="527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.А. Новиков UML 6. Управление моделям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BD653-7EA5-4EB3-A695-30C6348ACA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общение для пакетов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822320"/>
            <a:ext cx="9144000" cy="321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.А. Новиков UML 6. Управление моделям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5048D-2CF7-431F-9E33-988EB9FCFF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одели, системы и подсистем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304640"/>
            <a:ext cx="91440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изическая систем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елируемая часть реального мир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исание физической систем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одной физической системы м.б. несколько моделе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систем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ть физической систем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.А. Новиков UML 6. Управление моделями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E58AF-928B-41F0-9253-C060B43D03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амодель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правления моделями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03280" y="1125360"/>
            <a:ext cx="6248520" cy="5592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.А. Новиков UML 6. Управление моделям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16D10-37FC-4A47-ADBF-E8C3D54FE3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андартные стереотипы пакетов (1.х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6320" y="620640"/>
          <a:ext cx="9067680" cy="5697360"/>
        </p:xfrm>
        <a:graphic>
          <a:graphicData uri="http://schemas.openxmlformats.org/drawingml/2006/table">
            <a:tbl>
              <a:tblPr/>
              <a:tblGrid>
                <a:gridCol w="2579400"/>
                <a:gridCol w="6488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«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acade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»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кет, который содержит только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сылки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на элементы, определенные в других пакетах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«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ramework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кет, содержащий образцы и шабло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«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amodel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»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дель, которая описывает другую модел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«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odelLibrary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»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кет, содержащий определения элементов моделирования, предназначенных для использования в других пакетах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«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rofile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»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кет, содержащий определения элементов моделирования, предназначенных для моделирования в определенной предметной област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«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tub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»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кет, представляющий только открытые части другого пакет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«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ystemModel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»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дель, содержащая несколько моделей одной физической системы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«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pLevel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»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кет, который является конем иерархии вложенности пакетов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.А. Новиков UML 6. Управление моделям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638E3-521D-4894-B7CE-9CA960D4A2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лияние пакетов в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ML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873000"/>
            <a:ext cx="9144000" cy="55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чень мощный механизм повторного использов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тация: зависимость со стереотипом 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rge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 базы к приращени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лементы базы сопоставляются с элементами приращени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именам и метакласса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ращение расширяет базовый пакет непротиворечивым образо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ила расширения свои для каждого метакласса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.А. Новиков UML 6. Управление моделями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80D77-61FF-446E-B570-2EF9BB67B1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мер слияния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16680" t="13350" r="37414" b="51624"/>
          <a:stretch/>
        </p:blipFill>
        <p:spPr>
          <a:xfrm>
            <a:off x="1469880" y="1014480"/>
            <a:ext cx="6918480" cy="510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.А. Новиков UML 6. Управление моделям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C7255-D1DD-48F4-8BD6-5BF2ADD35C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.2. Трассировка и гиперссылк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28400" y="838080"/>
            <a:ext cx="8715240" cy="56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уществование диаграмм, представлений и моделей разного уровня абстракци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несистемное отношение, т.е. отношение между элементами модели, а не модель отношения между моделируемыми сущностям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слеживание версий, уровней детализации и т.д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висимость со стереотипом 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ce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.А. Новиков UML 6. Управление моделями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4357A-17A4-42A9-9965-C046C8B55CC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н лекци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42560" y="1268280"/>
            <a:ext cx="7419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ведение в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зор язык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ирование использов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ирование структур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ирование повед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правление моделям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нденции развития язык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процесс разработ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.А. Новиков UML 6. Управление моделями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FE32B-EB80-4173-B2CB-769EDE17B8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мер трассировк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1160640"/>
            <a:ext cx="9144000" cy="538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.А. Новиков UML 6. Управление моделям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2469E-4BD9-462D-8444-E2AC639361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иперссылк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2560" y="1295280"/>
            <a:ext cx="9001080" cy="49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gether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всех версий!) можно установить гиперссылку на любой элемент или диаграмм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иперссылку можно установить для любого элемента, в том числе вложенного элемент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иперссылок может быть сколько угодн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иперссылки – удобное средство навигации, поддержанное инструменто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.А. Новиков UML 6. Управление моделями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1362F-0D26-44A0-8444-65691CFFD73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.3. Образцы и каркас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86920" y="990360"/>
            <a:ext cx="85518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разец проектирования – типичное решение типичной проблемы в данном контекст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нтаксически образец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L (pattern)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раметрическая кооперация классов (шаблон кооперации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ркас – совокупность логически связанных образц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нтаксически каркас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L (framework)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кет со стереотипом 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mework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.А. Новиков UML 6. Управление моделями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A34C4-1C55-4276-B416-7F16A3E08A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мер применения образца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bserver = Subscribe Publis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14320" y="1268280"/>
            <a:ext cx="7513560" cy="2160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28600" y="34290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971640" y="3321000"/>
            <a:ext cx="7543800" cy="320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.А. Новиков UML 6. Управление моделям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759E4-E966-4D7A-AE61-D65BD649263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комендации по использованию образцов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58560" y="1375920"/>
            <a:ext cx="8497800" cy="51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зец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убликация обобщенного опыта профессионал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зец полезен и разуме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зец решает типичную, но узкую распространенную подзадач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зец лаконичен и тривиале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струменты содержат библиотеки образцов (от 10 до 100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вания нужно знать наизуст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рпоративные образц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а реального репозитория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.А. Новиков UML 6. Управление моделями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F4B08-6EA2-4AA0-9D45-3F90F552CAC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680" y="1143000"/>
            <a:ext cx="8191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ущности на одной диаграмм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аграмма должна охватываться «одним взглядом»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правление моделями – для того, кто моделирует, а не для компьютер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проекте сосуществуют разные модели в разных представлениях на разных уровнях абстракци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разцы проектирования полезно знать и применят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.А. Новиков UML 6. Управление моделями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21E36-77E8-4023-894D-8881AC6D578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. Управление моделям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7417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.1. Пакет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.2. Трассировка и гиперссыл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.3. Образцы и каркас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.А. Новиков UML 6. Управление моделями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CD1DF-843A-4ADB-8B2A-F33695B9B4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.1. Пакет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72640"/>
            <a:ext cx="9144000" cy="54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кет – группирующая сущност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ерархия пакет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онимный корневой пакет по умолчани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кет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ладее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объявленными в нем элементам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ладение – отношение композици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кет может владеть не только простыми элементами, но и пакетами, диаграммами и подсистемам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.А. Новиков UML 6. Управление моделями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F30E0-750B-4874-AD96-CF5ED19F8D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войства пакет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657360"/>
            <a:ext cx="8929800" cy="57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кет задает пространство имен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мена однородных элементов в пакете уникальн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тавные имена через :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имость элементов пакет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каждого элемента +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висимости со стереотипом 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ort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 и 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ступ по именам к открытым элементам, т.е. расширение пространства име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общение для пакет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бстрактный пак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.А. Новиков UML 6. Управление моделями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629CE-16A5-46BB-9842-CF156E4FD6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нципы структурирова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а структур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ичество сущностей на диаграмм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7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ирина ветвления дерева пакетов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7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исло вхождений элемента в диаграммы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7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держание структур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структуре приложе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фазам процесса разработк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представлениям модел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.А. Новиков UML 6. Управление моделями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ACC2A-6B3A-4DDE-BF9A-BCC7944BE8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240" y="-1440"/>
            <a:ext cx="9147240" cy="686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.А. Новиков UML 6. Управление моделями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5F24E-3EEA-4C80-AF56-70F4781029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ношения между пакетам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96472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ношения владения (вложенности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рево пакетов в инструмент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дуцированные отнош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статочно одной пар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ереотипные зависимост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ort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» 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ияние пакетов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ckage merge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2.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общени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бстрактные пакет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.А. Новиков UML 6. Управление моделями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24CB7-828E-48FD-8D5D-106C949B05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ношение вложенност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3933360"/>
            <a:ext cx="914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видит классы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но не видит класс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класс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видит классы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и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но не видит класс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не видит классы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видит класс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но не видит классы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280" y="657360"/>
            <a:ext cx="8763120" cy="318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.А. Новиков UML 6. Управление моделями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599AF-6612-479D-BF48-F7EAC2A08B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9T09:46:45Z</dcterms:created>
  <dc:creator>Fedor A. Novikov</dc:creator>
  <dc:description/>
  <dc:language>en-US</dc:language>
  <cp:lastModifiedBy>Fedor Novikov</cp:lastModifiedBy>
  <dcterms:modified xsi:type="dcterms:W3CDTF">2006-03-29T16:34:45Z</dcterms:modified>
  <cp:revision>42</cp:revision>
  <dc:subject/>
  <dc:title>OO Analysis &amp; Design with UML (elementary)</dc:title>
</cp:coreProperties>
</file>